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F98-C653-4C5D-B0AE-494FAB11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610-BD7D-441E-8D07-FC136C43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125-3E1C-4F6A-89B1-53087A33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552-8232-44BB-83CD-1F85A10E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7A74-229A-46AB-8949-FA67B802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6F3-BC33-4A65-8FC6-CC956CFB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4A0-0B0A-45B6-91A8-577E80F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2333-7BFC-45DB-890E-3359675B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5A2C-47E1-46C1-B20E-5DC99FD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3220-8E2B-46B5-BB42-6C9C7E7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F8EE-FA5F-40D9-ADAE-E399CCD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D81-846F-49C4-A3DF-A415FA4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9F28-E8F9-4A7E-B822-DF9AA7B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33F0-5926-444D-B2E4-0CD9F58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B64E-38D3-4AB0-8CD0-CE4C37E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CDFA-1610-43F2-BA4E-337C747E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05AE-0EEA-45CB-AB5B-EA83AAB7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23DA-0C79-4188-B7CE-85CE6513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7A55-72C0-41AE-85C8-9D6AB49B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A84B-AC7D-442C-B5F9-342155B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2F73-C98D-46DC-BB1E-87431E9F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7C51-09B8-464B-AEE6-E65E9E2A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B29-2FF4-4460-8F27-63812C95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6333-6B29-4E32-ABE2-9368622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42CE-51CD-43F3-9F90-0097797A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2867-CDF4-44BC-BC80-977FC33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5200E-EFF9-40F3-862E-177EC9C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F22C-53E6-4DEC-B6AC-C7132B9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1C92-BE23-4333-B065-9281E1AE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BC5D-550A-4160-ACD7-C90595BB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D81E-E616-4B9A-8BA3-8A4FE42B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3D6F-F4AB-4901-B889-2272000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80C1-07B4-4916-B816-A51ADF4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E73-6A1A-490B-BF5E-6311195C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D4EE-9902-44CE-9D76-8599C587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D1D6-09D5-45BD-A7D0-B8E82D15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8DF4-5902-40D1-BC50-AC4593F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0C48-235A-4740-8F19-5F1AE83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3321-889A-468A-85C8-BEF8F46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67A0-9B17-4465-9937-15F649D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9C5A-9B5E-4A9A-A693-151E3DB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48E6-2A37-4344-B773-1FF92EC2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A436-0A42-452C-9831-55714335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3748-6981-474D-9C37-2862BE9A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FD0-B5C2-42F6-9900-181CD0A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82E6-2D33-4EC7-8CEF-CBAD59D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30136-C814-4972-A65A-F616E36F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9F23F-EFCF-4533-A5D8-A18D2E0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9041-4A5E-45D3-8F9B-4A337F8F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B349-77AA-4D8D-A127-FAEFE7DD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15645-4AAB-4C73-85B9-4D5F81A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316E-D85F-443B-96FF-8E476AB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3EB9F-63DE-4976-9AED-8FC9F22F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29448-B53C-454E-A1F7-89EAF6D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95BC-D2AF-4EFA-AFF0-5A53A951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CDC-02D9-4E7C-B75A-ADE3C1CF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0417-8638-442B-9D40-FF4B8090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60F53-EE8C-4A8D-9ADA-1D37EAEA3D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7B8C1-C686-4AD0-9469-EA683A63D4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2D556-B338-40BB-A111-FD62F8CDDF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FE663-9440-4F72-A55D-D2ADD511F0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495A3-FE7D-4CD2-8733-502F118E78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7BF7A-629B-4BDA-A17C-CA8A0412EA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8240A-D4D3-4340-975D-AA42FDE2DE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8054B-933E-4750-BA0D-80956546F9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C3811-96E4-465E-933F-FCFE3A16F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316-1E8E-48C3-BF54-230DED5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26441-A1F7-4CC3-9F72-9F471D7AF7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8A5F8-8603-4FB9-A4AF-B2682EBD94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03833-924B-4F43-89CA-F750D73A39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6D75E-75A0-40A9-8D0D-9FE2DBD7E6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9F971-929A-414D-B728-5B06583477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C84AE1-46DA-4D73-B703-A5782171E6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02DA7C-E23E-4C31-982F-36F0BF8FBE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D98E29-EB78-4636-8772-52F654D593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9C9909-5657-4B8F-9F96-4E9DF76E58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1B358-56C8-498D-B768-B60AF24A3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C8F-2253-46D5-B37F-199911F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3A02D-AF9F-4121-AA8C-63B78C388C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579872-C2B5-42C4-AFE6-FEF9E3D37A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8E070-1472-4DA1-8129-9D88F4615D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46B4B-2DD7-460F-A20E-0DE74B125A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6B7E2F-7A3F-4DB2-B1E1-F6DCBFF19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116-7D32-4DA4-BC6A-0BB5C28F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579A-F4A1-4222-995A-6573A75167B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AA6-0634-4E56-97D4-EF74E101DE3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3635-C054-492C-900F-930C9C0AA03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357-2A0B-4424-8D2C-47CE7B09D75C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B524-8C8B-479B-B643-BECF7E38C8A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rebuchet MS"/>
              </a:rPr>
              <a:t>8-</a:t>
            </a:r>
            <a:fld id="{536CF535-43F1-4877-8300-402BEF37261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rebuchet MS"/>
              </a:rPr>
              <a:t>8-</a:t>
            </a:r>
            <a:fld id="{997CB1DA-C58A-4E36-AF68-9AAC91E4D44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amen – Hole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ra – ab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ternal – out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ernal – in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bital- Ey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tal – ch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ture – line or flat bo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ssa- Depres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dyle- Smooth Surf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henoid- Bat w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S- lacrimal, Ethmoid, and Spheno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4586400" y="4602240"/>
            <a:ext cx="1093680" cy="180720"/>
          </a:xfrm>
          <a:custGeom>
            <a:avLst/>
            <a:gdLst/>
            <a:ahLst/>
            <a:rect l="l" t="t" r="r" b="b"/>
            <a:pathLst>
              <a:path w="1094509" h="180993">
                <a:moveTo>
                  <a:pt x="0" y="149954"/>
                </a:moveTo>
                <a:cubicBezTo>
                  <a:pt x="23091" y="126863"/>
                  <a:pt x="48872" y="106181"/>
                  <a:pt x="69272" y="80681"/>
                </a:cubicBezTo>
                <a:cubicBezTo>
                  <a:pt x="86094" y="59654"/>
                  <a:pt x="86229" y="22346"/>
                  <a:pt x="110836" y="11409"/>
                </a:cubicBezTo>
                <a:cubicBezTo>
                  <a:pt x="136506" y="0"/>
                  <a:pt x="166254" y="20645"/>
                  <a:pt x="193963" y="25263"/>
                </a:cubicBezTo>
                <a:cubicBezTo>
                  <a:pt x="207818" y="29881"/>
                  <a:pt x="224123" y="29995"/>
                  <a:pt x="235527" y="39118"/>
                </a:cubicBezTo>
                <a:cubicBezTo>
                  <a:pt x="266775" y="64116"/>
                  <a:pt x="267230" y="101588"/>
                  <a:pt x="277090" y="136100"/>
                </a:cubicBezTo>
                <a:cubicBezTo>
                  <a:pt x="281102" y="150142"/>
                  <a:pt x="286327" y="163809"/>
                  <a:pt x="290945" y="177663"/>
                </a:cubicBezTo>
                <a:cubicBezTo>
                  <a:pt x="304800" y="173045"/>
                  <a:pt x="319447" y="170340"/>
                  <a:pt x="332509" y="163809"/>
                </a:cubicBezTo>
                <a:cubicBezTo>
                  <a:pt x="347402" y="156363"/>
                  <a:pt x="358767" y="142659"/>
                  <a:pt x="374072" y="136100"/>
                </a:cubicBezTo>
                <a:cubicBezTo>
                  <a:pt x="391574" y="128599"/>
                  <a:pt x="411017" y="126863"/>
                  <a:pt x="429490" y="122245"/>
                </a:cubicBezTo>
                <a:cubicBezTo>
                  <a:pt x="434108" y="108390"/>
                  <a:pt x="433018" y="91008"/>
                  <a:pt x="443345" y="80681"/>
                </a:cubicBezTo>
                <a:cubicBezTo>
                  <a:pt x="480447" y="43580"/>
                  <a:pt x="495856" y="79228"/>
                  <a:pt x="526472" y="94536"/>
                </a:cubicBezTo>
                <a:cubicBezTo>
                  <a:pt x="539534" y="101067"/>
                  <a:pt x="554181" y="103772"/>
                  <a:pt x="568036" y="108390"/>
                </a:cubicBezTo>
                <a:cubicBezTo>
                  <a:pt x="573264" y="124075"/>
                  <a:pt x="582973" y="173859"/>
                  <a:pt x="609600" y="177663"/>
                </a:cubicBezTo>
                <a:cubicBezTo>
                  <a:pt x="632911" y="180993"/>
                  <a:pt x="655781" y="168427"/>
                  <a:pt x="678872" y="163809"/>
                </a:cubicBezTo>
                <a:cubicBezTo>
                  <a:pt x="692727" y="154573"/>
                  <a:pt x="707434" y="146502"/>
                  <a:pt x="720436" y="136100"/>
                </a:cubicBezTo>
                <a:cubicBezTo>
                  <a:pt x="741911" y="118919"/>
                  <a:pt x="763854" y="90828"/>
                  <a:pt x="775854" y="66827"/>
                </a:cubicBezTo>
                <a:cubicBezTo>
                  <a:pt x="782385" y="53765"/>
                  <a:pt x="785091" y="39118"/>
                  <a:pt x="789709" y="25263"/>
                </a:cubicBezTo>
                <a:cubicBezTo>
                  <a:pt x="817418" y="43736"/>
                  <a:pt x="854363" y="52972"/>
                  <a:pt x="872836" y="80681"/>
                </a:cubicBezTo>
                <a:cubicBezTo>
                  <a:pt x="908646" y="134396"/>
                  <a:pt x="884748" y="116979"/>
                  <a:pt x="942109" y="136100"/>
                </a:cubicBezTo>
                <a:cubicBezTo>
                  <a:pt x="959867" y="131660"/>
                  <a:pt x="1019212" y="118329"/>
                  <a:pt x="1039090" y="108390"/>
                </a:cubicBezTo>
                <a:cubicBezTo>
                  <a:pt x="1053983" y="100943"/>
                  <a:pt x="1066799" y="89917"/>
                  <a:pt x="1080654" y="80681"/>
                </a:cubicBezTo>
                <a:lnTo>
                  <a:pt x="1094509" y="39118"/>
                </a:lnTo>
              </a:path>
            </a:pathLst>
          </a:custGeom>
          <a:noFill/>
          <a:ln w="11520">
            <a:solidFill>
              <a:srgbClr val="b83d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80952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hhe.com/saladin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xtbook websi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homes.bio.psu.edu/people/faculty/strauss/anatomy/skel/skeletal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13f9a"/>
                </a:solidFill>
                <a:latin typeface="Trebuchet MS"/>
              </a:rPr>
              <a:t>Additional Websi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5" name="Picture 5" descr="C:\Documents and Settings\aj07537\My Documents\My Pictures\Microsoft Clip Organizer\j0395783.gif"/>
          <p:cNvPicPr/>
          <p:nvPr/>
        </p:nvPicPr>
        <p:blipFill>
          <a:blip r:embed="rId2"/>
          <a:stretch/>
        </p:blipFill>
        <p:spPr>
          <a:xfrm>
            <a:off x="457200" y="22096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36"/>
          <p:cNvGrpSpPr/>
          <p:nvPr/>
        </p:nvGrpSpPr>
        <p:grpSpPr>
          <a:xfrm>
            <a:off x="865080" y="851040"/>
            <a:ext cx="8510040" cy="5562000"/>
            <a:chOff x="865080" y="851040"/>
            <a:chExt cx="8510040" cy="5562000"/>
          </a:xfrm>
        </p:grpSpPr>
        <p:pic>
          <p:nvPicPr>
            <p:cNvPr id="310" name="Picture 38" descr="sal25693_08_15"/>
            <p:cNvPicPr/>
            <p:nvPr/>
          </p:nvPicPr>
          <p:blipFill>
            <a:blip r:embed="rId1"/>
            <a:stretch/>
          </p:blipFill>
          <p:spPr>
            <a:xfrm>
              <a:off x="2267640" y="1372680"/>
              <a:ext cx="504000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39"/>
            <p:cNvSpPr/>
            <p:nvPr/>
          </p:nvSpPr>
          <p:spPr>
            <a:xfrm>
              <a:off x="6983280" y="851040"/>
              <a:ext cx="239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andibular condy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0"/>
            <p:cNvSpPr/>
            <p:nvPr/>
          </p:nvSpPr>
          <p:spPr>
            <a:xfrm flipV="1">
              <a:off x="5688000" y="1357560"/>
              <a:ext cx="1399320" cy="16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41"/>
            <p:cNvSpPr/>
            <p:nvPr/>
          </p:nvSpPr>
          <p:spPr>
            <a:xfrm>
              <a:off x="1737720" y="974520"/>
              <a:ext cx="19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ondylar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"/>
            <p:cNvSpPr/>
            <p:nvPr/>
          </p:nvSpPr>
          <p:spPr>
            <a:xfrm>
              <a:off x="2750040" y="1155600"/>
              <a:ext cx="2720520" cy="346680"/>
            </a:xfrm>
            <a:custGeom>
              <a:avLst/>
              <a:gdLst>
                <a:gd name="textAreaLeft" fmla="*/ 0 w 2720520"/>
                <a:gd name="textAreaRight" fmla="*/ 2720520 w 272052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1557" h="198">
                  <a:moveTo>
                    <a:pt x="1557" y="198"/>
                  </a:moveTo>
                  <a:lnTo>
                    <a:pt x="927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43"/>
            <p:cNvSpPr/>
            <p:nvPr/>
          </p:nvSpPr>
          <p:spPr>
            <a:xfrm>
              <a:off x="1674360" y="1954800"/>
              <a:ext cx="204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andibular no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4"/>
            <p:cNvSpPr/>
            <p:nvPr/>
          </p:nvSpPr>
          <p:spPr>
            <a:xfrm>
              <a:off x="1754640" y="1469160"/>
              <a:ext cx="19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oronoid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5"/>
            <p:cNvSpPr/>
            <p:nvPr/>
          </p:nvSpPr>
          <p:spPr>
            <a:xfrm>
              <a:off x="2780280" y="1635120"/>
              <a:ext cx="159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6"/>
            <p:cNvSpPr/>
            <p:nvPr/>
          </p:nvSpPr>
          <p:spPr>
            <a:xfrm>
              <a:off x="1760040" y="2862720"/>
              <a:ext cx="23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andibular fora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7"/>
            <p:cNvSpPr/>
            <p:nvPr/>
          </p:nvSpPr>
          <p:spPr>
            <a:xfrm>
              <a:off x="4370400" y="613836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8"/>
            <p:cNvSpPr/>
            <p:nvPr/>
          </p:nvSpPr>
          <p:spPr>
            <a:xfrm>
              <a:off x="7055640" y="566172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9"/>
            <p:cNvSpPr/>
            <p:nvPr/>
          </p:nvSpPr>
          <p:spPr>
            <a:xfrm>
              <a:off x="7839000" y="3906360"/>
              <a:ext cx="77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Ram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0"/>
            <p:cNvSpPr/>
            <p:nvPr/>
          </p:nvSpPr>
          <p:spPr>
            <a:xfrm>
              <a:off x="2454480" y="5366160"/>
              <a:ext cx="322560" cy="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1"/>
            <p:cNvSpPr/>
            <p:nvPr/>
          </p:nvSpPr>
          <p:spPr>
            <a:xfrm>
              <a:off x="1109520" y="5187960"/>
              <a:ext cx="24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ental protube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2"/>
            <p:cNvSpPr/>
            <p:nvPr/>
          </p:nvSpPr>
          <p:spPr>
            <a:xfrm>
              <a:off x="3015720" y="3049560"/>
              <a:ext cx="1779480" cy="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3"/>
            <p:cNvSpPr/>
            <p:nvPr/>
          </p:nvSpPr>
          <p:spPr>
            <a:xfrm>
              <a:off x="1866240" y="4753800"/>
              <a:ext cx="1773360" cy="500400"/>
            </a:xfrm>
            <a:custGeom>
              <a:avLst/>
              <a:gdLst>
                <a:gd name="textAreaLeft" fmla="*/ 0 w 1773360"/>
                <a:gd name="textAreaRight" fmla="*/ 1773720 w 1773360"/>
                <a:gd name="textAreaTop" fmla="*/ 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1015" h="286">
                  <a:moveTo>
                    <a:pt x="1015" y="286"/>
                  </a:moveTo>
                  <a:lnTo>
                    <a:pt x="426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4"/>
            <p:cNvSpPr/>
            <p:nvPr/>
          </p:nvSpPr>
          <p:spPr>
            <a:xfrm>
              <a:off x="865080" y="4572720"/>
              <a:ext cx="185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ental fora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5"/>
            <p:cNvSpPr/>
            <p:nvPr/>
          </p:nvSpPr>
          <p:spPr>
            <a:xfrm>
              <a:off x="1983960" y="4090320"/>
              <a:ext cx="937800" cy="28620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537" h="165">
                  <a:moveTo>
                    <a:pt x="537" y="165"/>
                  </a:moveTo>
                  <a:lnTo>
                    <a:pt x="285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6"/>
            <p:cNvSpPr/>
            <p:nvPr/>
          </p:nvSpPr>
          <p:spPr>
            <a:xfrm>
              <a:off x="997920" y="3918240"/>
              <a:ext cx="187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Alveolar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7"/>
            <p:cNvSpPr/>
            <p:nvPr/>
          </p:nvSpPr>
          <p:spPr>
            <a:xfrm>
              <a:off x="6797880" y="2868840"/>
              <a:ext cx="741960" cy="216828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2168280"/>
                <a:gd name="textAreaBottom" fmla="*/ 2168640 h 2168280"/>
              </a:gdLst>
              <a:ahLst/>
              <a:rect l="textAreaLeft" t="textAreaTop" r="textAreaRight" b="textAreaBottom"/>
              <a:pathLst>
                <a:path w="425" h="1241">
                  <a:moveTo>
                    <a:pt x="319" y="0"/>
                  </a:moveTo>
                  <a:lnTo>
                    <a:pt x="425" y="29"/>
                  </a:lnTo>
                  <a:lnTo>
                    <a:pt x="108" y="1241"/>
                  </a:lnTo>
                  <a:lnTo>
                    <a:pt x="0" y="121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8"/>
            <p:cNvSpPr/>
            <p:nvPr/>
          </p:nvSpPr>
          <p:spPr>
            <a:xfrm>
              <a:off x="7253640" y="3960360"/>
              <a:ext cx="18684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9"/>
            <p:cNvSpPr/>
            <p:nvPr/>
          </p:nvSpPr>
          <p:spPr>
            <a:xfrm>
              <a:off x="2602440" y="5749200"/>
              <a:ext cx="3571200" cy="192960"/>
            </a:xfrm>
            <a:custGeom>
              <a:avLst/>
              <a:gdLst>
                <a:gd name="textAreaLeft" fmla="*/ 0 w 3571200"/>
                <a:gd name="textAreaRight" fmla="*/ 3571560 w 35712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4" h="111">
                  <a:moveTo>
                    <a:pt x="2044" y="0"/>
                  </a:moveTo>
                  <a:lnTo>
                    <a:pt x="2044" y="111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0"/>
            <p:cNvSpPr/>
            <p:nvPr/>
          </p:nvSpPr>
          <p:spPr>
            <a:xfrm>
              <a:off x="4384800" y="5942160"/>
              <a:ext cx="2880" cy="19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1"/>
            <p:cNvSpPr/>
            <p:nvPr/>
          </p:nvSpPr>
          <p:spPr>
            <a:xfrm>
              <a:off x="6243120" y="5124600"/>
              <a:ext cx="723600" cy="68436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414" h="393">
                  <a:moveTo>
                    <a:pt x="338" y="0"/>
                  </a:moveTo>
                  <a:lnTo>
                    <a:pt x="414" y="83"/>
                  </a:lnTo>
                  <a:lnTo>
                    <a:pt x="73" y="393"/>
                  </a:lnTo>
                  <a:lnTo>
                    <a:pt x="0" y="31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2"/>
            <p:cNvSpPr/>
            <p:nvPr/>
          </p:nvSpPr>
          <p:spPr>
            <a:xfrm>
              <a:off x="6668280" y="5541120"/>
              <a:ext cx="126360" cy="144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63"/>
            <p:cNvSpPr/>
            <p:nvPr/>
          </p:nvSpPr>
          <p:spPr>
            <a:xfrm flipV="1">
              <a:off x="7075440" y="1164600"/>
              <a:ext cx="2880" cy="1405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4"/>
            <p:cNvSpPr/>
            <p:nvPr/>
          </p:nvSpPr>
          <p:spPr>
            <a:xfrm>
              <a:off x="2716920" y="2129760"/>
              <a:ext cx="1839600" cy="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5"/>
            <p:cNvSpPr/>
            <p:nvPr/>
          </p:nvSpPr>
          <p:spPr>
            <a:xfrm flipV="1">
              <a:off x="4554000" y="1875960"/>
              <a:ext cx="431280" cy="25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76"/>
          <p:cNvGrpSpPr/>
          <p:nvPr/>
        </p:nvGrpSpPr>
        <p:grpSpPr>
          <a:xfrm>
            <a:off x="480960" y="200160"/>
            <a:ext cx="8283600" cy="6432480"/>
            <a:chOff x="480960" y="200160"/>
            <a:chExt cx="8283600" cy="6432480"/>
          </a:xfrm>
        </p:grpSpPr>
        <p:pic>
          <p:nvPicPr>
            <p:cNvPr id="339" name="Picture 8" descr="sal25693_08_03"/>
            <p:cNvPicPr/>
            <p:nvPr/>
          </p:nvPicPr>
          <p:blipFill>
            <a:blip r:embed="rId1"/>
            <a:stretch/>
          </p:blipFill>
          <p:spPr>
            <a:xfrm>
              <a:off x="2349720" y="488520"/>
              <a:ext cx="4400280" cy="61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24"/>
            <p:cNvSpPr/>
            <p:nvPr/>
          </p:nvSpPr>
          <p:spPr>
            <a:xfrm>
              <a:off x="480960" y="200160"/>
              <a:ext cx="828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pyright © The McGraw-Hill Companies, Inc. Permission required for reproduction or displa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>
              <a:off x="555120" y="63144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ron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"/>
            <p:cNvSpPr/>
            <p:nvPr/>
          </p:nvSpPr>
          <p:spPr>
            <a:xfrm>
              <a:off x="556920" y="163476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onal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559440" y="3012120"/>
              <a:ext cx="126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crim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564120" y="2303280"/>
              <a:ext cx="155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quamous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507600" y="4075200"/>
              <a:ext cx="185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nfraorbi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5"/>
            <p:cNvSpPr/>
            <p:nvPr/>
          </p:nvSpPr>
          <p:spPr>
            <a:xfrm>
              <a:off x="548640" y="475812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V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49360" y="542952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571320" y="2709000"/>
              <a:ext cx="131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8"/>
            <p:cNvSpPr/>
            <p:nvPr/>
          </p:nvSpPr>
          <p:spPr>
            <a:xfrm>
              <a:off x="7180560" y="301212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thm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9"/>
            <p:cNvSpPr/>
            <p:nvPr/>
          </p:nvSpPr>
          <p:spPr>
            <a:xfrm>
              <a:off x="561600" y="3297960"/>
              <a:ext cx="99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Nas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0"/>
            <p:cNvSpPr/>
            <p:nvPr/>
          </p:nvSpPr>
          <p:spPr>
            <a:xfrm>
              <a:off x="7179840" y="3763440"/>
              <a:ext cx="142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1"/>
            <p:cNvSpPr/>
            <p:nvPr/>
          </p:nvSpPr>
          <p:spPr>
            <a:xfrm>
              <a:off x="7170840" y="4589640"/>
              <a:ext cx="65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xi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2"/>
            <p:cNvSpPr/>
            <p:nvPr/>
          </p:nvSpPr>
          <p:spPr>
            <a:xfrm>
              <a:off x="7146360" y="5975640"/>
              <a:ext cx="144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n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3"/>
            <p:cNvSpPr/>
            <p:nvPr/>
          </p:nvSpPr>
          <p:spPr>
            <a:xfrm>
              <a:off x="7176600" y="245772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>
              <a:off x="1823760" y="765720"/>
              <a:ext cx="20973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>
              <a:off x="5375880" y="1074600"/>
              <a:ext cx="1728720" cy="1377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377360"/>
                <a:gd name="textAreaBottom" fmla="*/ 1377720 h 1377360"/>
              </a:gdLst>
              <a:ahLst/>
              <a:rect l="textAreaLeft" t="textAreaTop" r="textAreaRight" b="textAreaBottom"/>
              <a:pathLst>
                <a:path w="1106" h="881">
                  <a:moveTo>
                    <a:pt x="0" y="881"/>
                  </a:moveTo>
                  <a:lnTo>
                    <a:pt x="944" y="0"/>
                  </a:lnTo>
                  <a:lnTo>
                    <a:pt x="110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"/>
            <p:cNvSpPr/>
            <p:nvPr/>
          </p:nvSpPr>
          <p:spPr>
            <a:xfrm>
              <a:off x="4955760" y="3132000"/>
              <a:ext cx="2137320" cy="252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367" h="1587">
                  <a:moveTo>
                    <a:pt x="1367" y="0"/>
                  </a:moveTo>
                  <a:lnTo>
                    <a:pt x="289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1826640" y="3683520"/>
              <a:ext cx="245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>
              <a:off x="1723680" y="3306240"/>
              <a:ext cx="2691720" cy="119880"/>
            </a:xfrm>
            <a:custGeom>
              <a:avLst/>
              <a:gdLst>
                <a:gd name="textAreaLeft" fmla="*/ 0 w 2691720"/>
                <a:gd name="textAreaRight" fmla="*/ 2691720 w 2691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722" h="77">
                  <a:moveTo>
                    <a:pt x="1722" y="0"/>
                  </a:moveTo>
                  <a:lnTo>
                    <a:pt x="1624" y="77"/>
                  </a:lnTo>
                  <a:lnTo>
                    <a:pt x="0" y="7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2"/>
            <p:cNvSpPr/>
            <p:nvPr/>
          </p:nvSpPr>
          <p:spPr>
            <a:xfrm>
              <a:off x="4867200" y="4186440"/>
              <a:ext cx="222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3"/>
            <p:cNvSpPr/>
            <p:nvPr/>
          </p:nvSpPr>
          <p:spPr>
            <a:xfrm>
              <a:off x="6473160" y="3880800"/>
              <a:ext cx="61992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4"/>
            <p:cNvSpPr/>
            <p:nvPr/>
          </p:nvSpPr>
          <p:spPr>
            <a:xfrm>
              <a:off x="5407200" y="4709520"/>
              <a:ext cx="16858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5"/>
            <p:cNvSpPr/>
            <p:nvPr/>
          </p:nvSpPr>
          <p:spPr>
            <a:xfrm>
              <a:off x="5335560" y="6095520"/>
              <a:ext cx="17571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6"/>
            <p:cNvSpPr/>
            <p:nvPr/>
          </p:nvSpPr>
          <p:spPr>
            <a:xfrm>
              <a:off x="6656040" y="2574720"/>
              <a:ext cx="4370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7"/>
            <p:cNvSpPr/>
            <p:nvPr/>
          </p:nvSpPr>
          <p:spPr>
            <a:xfrm>
              <a:off x="2192400" y="1760400"/>
              <a:ext cx="39132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9"/>
            <p:cNvSpPr/>
            <p:nvPr/>
          </p:nvSpPr>
          <p:spPr>
            <a:xfrm>
              <a:off x="1952280" y="3146400"/>
              <a:ext cx="2217240" cy="91440"/>
            </a:xfrm>
            <a:custGeom>
              <a:avLst/>
              <a:gdLst>
                <a:gd name="textAreaLeft" fmla="*/ 0 w 2217240"/>
                <a:gd name="textAreaRight" fmla="*/ 2217600 w 221724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1418" h="58">
                  <a:moveTo>
                    <a:pt x="1418" y="58"/>
                  </a:moveTo>
                  <a:lnTo>
                    <a:pt x="86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>
              <a:off x="2232360" y="2437560"/>
              <a:ext cx="21132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2349720" y="2563200"/>
              <a:ext cx="348480" cy="26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2"/>
            <p:cNvSpPr/>
            <p:nvPr/>
          </p:nvSpPr>
          <p:spPr>
            <a:xfrm>
              <a:off x="2375280" y="3966480"/>
              <a:ext cx="1345680" cy="254160"/>
            </a:xfrm>
            <a:custGeom>
              <a:avLst/>
              <a:gdLst>
                <a:gd name="textAreaLeft" fmla="*/ 0 w 1345680"/>
                <a:gd name="textAreaRight" fmla="*/ 1346040 w 13456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862" h="163">
                  <a:moveTo>
                    <a:pt x="862" y="0"/>
                  </a:moveTo>
                  <a:lnTo>
                    <a:pt x="147" y="163"/>
                  </a:lnTo>
                  <a:lnTo>
                    <a:pt x="0" y="16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3"/>
            <p:cNvSpPr/>
            <p:nvPr/>
          </p:nvSpPr>
          <p:spPr>
            <a:xfrm>
              <a:off x="1335240" y="4200840"/>
              <a:ext cx="3220200" cy="696960"/>
            </a:xfrm>
            <a:custGeom>
              <a:avLst/>
              <a:gdLst>
                <a:gd name="textAreaLeft" fmla="*/ 0 w 3220200"/>
                <a:gd name="textAreaRight" fmla="*/ 3220560 w 3220200"/>
                <a:gd name="textAreaTop" fmla="*/ 0 h 696960"/>
                <a:gd name="textAreaBottom" fmla="*/ 696960 h 696960"/>
              </a:gdLst>
              <a:ahLst/>
              <a:rect l="textAreaLeft" t="textAreaTop" r="textAreaRight" b="textAreaBottom"/>
              <a:pathLst>
                <a:path w="2061" h="447">
                  <a:moveTo>
                    <a:pt x="2061" y="0"/>
                  </a:moveTo>
                  <a:lnTo>
                    <a:pt x="293" y="447"/>
                  </a:lnTo>
                  <a:lnTo>
                    <a:pt x="0" y="44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>
              <a:off x="1532520" y="5558400"/>
              <a:ext cx="184860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49480" y="2832120"/>
              <a:ext cx="1397160" cy="13716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94" h="88">
                  <a:moveTo>
                    <a:pt x="0" y="0"/>
                  </a:moveTo>
                  <a:lnTo>
                    <a:pt x="805" y="0"/>
                  </a:lnTo>
                  <a:lnTo>
                    <a:pt x="894" y="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 flipH="1">
              <a:off x="4529880" y="3132000"/>
              <a:ext cx="876960" cy="488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8"/>
            <p:cNvSpPr/>
            <p:nvPr/>
          </p:nvSpPr>
          <p:spPr>
            <a:xfrm>
              <a:off x="1823760" y="757080"/>
              <a:ext cx="209736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5375880" y="1063080"/>
              <a:ext cx="1728720" cy="1377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377360"/>
                <a:gd name="textAreaBottom" fmla="*/ 1377720 h 1377360"/>
              </a:gdLst>
              <a:ahLst/>
              <a:rect l="textAreaLeft" t="textAreaTop" r="textAreaRight" b="textAreaBottom"/>
              <a:pathLst>
                <a:path w="1106" h="881">
                  <a:moveTo>
                    <a:pt x="0" y="881"/>
                  </a:moveTo>
                  <a:lnTo>
                    <a:pt x="944" y="0"/>
                  </a:lnTo>
                  <a:lnTo>
                    <a:pt x="110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1"/>
            <p:cNvSpPr/>
            <p:nvPr/>
          </p:nvSpPr>
          <p:spPr>
            <a:xfrm>
              <a:off x="4955760" y="3120480"/>
              <a:ext cx="2137320" cy="252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367" h="1587">
                  <a:moveTo>
                    <a:pt x="1367" y="0"/>
                  </a:moveTo>
                  <a:lnTo>
                    <a:pt x="289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1826640" y="3669480"/>
              <a:ext cx="245160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3"/>
            <p:cNvSpPr/>
            <p:nvPr/>
          </p:nvSpPr>
          <p:spPr>
            <a:xfrm>
              <a:off x="1723680" y="3295080"/>
              <a:ext cx="2691720" cy="119880"/>
            </a:xfrm>
            <a:custGeom>
              <a:avLst/>
              <a:gdLst>
                <a:gd name="textAreaLeft" fmla="*/ 0 w 2691720"/>
                <a:gd name="textAreaRight" fmla="*/ 2691720 w 2691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722" h="78">
                  <a:moveTo>
                    <a:pt x="1722" y="0"/>
                  </a:moveTo>
                  <a:lnTo>
                    <a:pt x="1624" y="78"/>
                  </a:lnTo>
                  <a:lnTo>
                    <a:pt x="0" y="7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4"/>
            <p:cNvSpPr/>
            <p:nvPr/>
          </p:nvSpPr>
          <p:spPr>
            <a:xfrm>
              <a:off x="4867200" y="4172400"/>
              <a:ext cx="222588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5"/>
            <p:cNvSpPr/>
            <p:nvPr/>
          </p:nvSpPr>
          <p:spPr>
            <a:xfrm>
              <a:off x="6473160" y="3872160"/>
              <a:ext cx="6199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6"/>
            <p:cNvSpPr/>
            <p:nvPr/>
          </p:nvSpPr>
          <p:spPr>
            <a:xfrm>
              <a:off x="5407200" y="4700880"/>
              <a:ext cx="16858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7"/>
            <p:cNvSpPr/>
            <p:nvPr/>
          </p:nvSpPr>
          <p:spPr>
            <a:xfrm>
              <a:off x="5335560" y="6086880"/>
              <a:ext cx="175716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8"/>
            <p:cNvSpPr/>
            <p:nvPr/>
          </p:nvSpPr>
          <p:spPr>
            <a:xfrm>
              <a:off x="6656040" y="2563200"/>
              <a:ext cx="4370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9"/>
            <p:cNvSpPr/>
            <p:nvPr/>
          </p:nvSpPr>
          <p:spPr>
            <a:xfrm>
              <a:off x="7171200" y="153756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0"/>
            <p:cNvSpPr/>
            <p:nvPr/>
          </p:nvSpPr>
          <p:spPr>
            <a:xfrm>
              <a:off x="6578640" y="1657440"/>
              <a:ext cx="514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6578640" y="1643040"/>
              <a:ext cx="51408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2"/>
            <p:cNvSpPr/>
            <p:nvPr/>
          </p:nvSpPr>
          <p:spPr>
            <a:xfrm>
              <a:off x="1986840" y="1748880"/>
              <a:ext cx="602640" cy="382680"/>
            </a:xfrm>
            <a:custGeom>
              <a:avLst/>
              <a:gdLst>
                <a:gd name="textAreaLeft" fmla="*/ 0 w 602640"/>
                <a:gd name="textAreaRight" fmla="*/ 602640 w 60264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5" h="246">
                  <a:moveTo>
                    <a:pt x="385" y="246"/>
                  </a:moveTo>
                  <a:lnTo>
                    <a:pt x="131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4"/>
            <p:cNvSpPr/>
            <p:nvPr/>
          </p:nvSpPr>
          <p:spPr>
            <a:xfrm>
              <a:off x="1952280" y="3134880"/>
              <a:ext cx="2217240" cy="91440"/>
            </a:xfrm>
            <a:custGeom>
              <a:avLst/>
              <a:gdLst>
                <a:gd name="textAreaLeft" fmla="*/ 0 w 2217240"/>
                <a:gd name="textAreaRight" fmla="*/ 2217600 w 22172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18" h="57">
                  <a:moveTo>
                    <a:pt x="1418" y="57"/>
                  </a:moveTo>
                  <a:lnTo>
                    <a:pt x="861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5"/>
            <p:cNvSpPr/>
            <p:nvPr/>
          </p:nvSpPr>
          <p:spPr>
            <a:xfrm>
              <a:off x="2232360" y="2426040"/>
              <a:ext cx="2113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66"/>
            <p:cNvSpPr/>
            <p:nvPr/>
          </p:nvSpPr>
          <p:spPr>
            <a:xfrm flipV="1">
              <a:off x="2349720" y="2552040"/>
              <a:ext cx="348480" cy="26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7"/>
            <p:cNvSpPr/>
            <p:nvPr/>
          </p:nvSpPr>
          <p:spPr>
            <a:xfrm>
              <a:off x="2375280" y="3954960"/>
              <a:ext cx="1345680" cy="257040"/>
            </a:xfrm>
            <a:custGeom>
              <a:avLst/>
              <a:gdLst>
                <a:gd name="textAreaLeft" fmla="*/ 0 w 1345680"/>
                <a:gd name="textAreaRight" fmla="*/ 1346040 w 134568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862" h="164">
                  <a:moveTo>
                    <a:pt x="862" y="0"/>
                  </a:moveTo>
                  <a:lnTo>
                    <a:pt x="147" y="164"/>
                  </a:lnTo>
                  <a:lnTo>
                    <a:pt x="0" y="16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"/>
            <p:cNvSpPr/>
            <p:nvPr/>
          </p:nvSpPr>
          <p:spPr>
            <a:xfrm>
              <a:off x="1335240" y="4186440"/>
              <a:ext cx="3220200" cy="699840"/>
            </a:xfrm>
            <a:custGeom>
              <a:avLst/>
              <a:gdLst>
                <a:gd name="textAreaLeft" fmla="*/ 0 w 3220200"/>
                <a:gd name="textAreaRight" fmla="*/ 3220560 w 322020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061" h="447">
                  <a:moveTo>
                    <a:pt x="2061" y="0"/>
                  </a:moveTo>
                  <a:lnTo>
                    <a:pt x="293" y="447"/>
                  </a:lnTo>
                  <a:lnTo>
                    <a:pt x="0" y="44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9"/>
            <p:cNvSpPr/>
            <p:nvPr/>
          </p:nvSpPr>
          <p:spPr>
            <a:xfrm>
              <a:off x="1532520" y="5549760"/>
              <a:ext cx="184860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71"/>
            <p:cNvSpPr/>
            <p:nvPr/>
          </p:nvSpPr>
          <p:spPr>
            <a:xfrm>
              <a:off x="2049480" y="2820600"/>
              <a:ext cx="1397160" cy="13716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94" h="88">
                  <a:moveTo>
                    <a:pt x="0" y="0"/>
                  </a:moveTo>
                  <a:lnTo>
                    <a:pt x="805" y="0"/>
                  </a:lnTo>
                  <a:lnTo>
                    <a:pt x="894" y="8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2"/>
            <p:cNvSpPr/>
            <p:nvPr/>
          </p:nvSpPr>
          <p:spPr>
            <a:xfrm flipH="1">
              <a:off x="4529880" y="3120480"/>
              <a:ext cx="876960" cy="491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73"/>
            <p:cNvSpPr/>
            <p:nvPr/>
          </p:nvSpPr>
          <p:spPr>
            <a:xfrm>
              <a:off x="541080" y="3555000"/>
              <a:ext cx="1221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ddle na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nc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4"/>
            <p:cNvSpPr/>
            <p:nvPr/>
          </p:nvSpPr>
          <p:spPr>
            <a:xfrm>
              <a:off x="7147800" y="4063680"/>
              <a:ext cx="1300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nferior na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nc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76"/>
            <p:cNvSpPr/>
            <p:nvPr/>
          </p:nvSpPr>
          <p:spPr>
            <a:xfrm>
              <a:off x="7160760" y="948600"/>
              <a:ext cx="1206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upraorb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Arial"/>
              </a:rPr>
              <a:t>8-</a:t>
            </a:r>
            <a:fld id="{358FB10D-894D-4587-8C80-EC1B8D3B339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6"/>
          <p:cNvGrpSpPr/>
          <p:nvPr/>
        </p:nvGrpSpPr>
        <p:grpSpPr>
          <a:xfrm>
            <a:off x="45360" y="1192320"/>
            <a:ext cx="9023400" cy="4903560"/>
            <a:chOff x="45360" y="1192320"/>
            <a:chExt cx="9023400" cy="4903560"/>
          </a:xfrm>
        </p:grpSpPr>
        <p:pic>
          <p:nvPicPr>
            <p:cNvPr id="401" name="Picture 10" descr="sal25693_08_04a"/>
            <p:cNvPicPr/>
            <p:nvPr/>
          </p:nvPicPr>
          <p:blipFill>
            <a:blip r:embed="rId1"/>
            <a:stretch/>
          </p:blipFill>
          <p:spPr>
            <a:xfrm>
              <a:off x="1855800" y="1192320"/>
              <a:ext cx="5001120" cy="47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12"/>
            <p:cNvSpPr/>
            <p:nvPr/>
          </p:nvSpPr>
          <p:spPr>
            <a:xfrm>
              <a:off x="59400" y="194472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3"/>
            <p:cNvSpPr/>
            <p:nvPr/>
          </p:nvSpPr>
          <p:spPr>
            <a:xfrm>
              <a:off x="7267680" y="164628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ron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4"/>
            <p:cNvSpPr/>
            <p:nvPr/>
          </p:nvSpPr>
          <p:spPr>
            <a:xfrm>
              <a:off x="59040" y="2741760"/>
              <a:ext cx="152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mbdoid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5"/>
            <p:cNvSpPr/>
            <p:nvPr/>
          </p:nvSpPr>
          <p:spPr>
            <a:xfrm>
              <a:off x="79560" y="2995920"/>
              <a:ext cx="131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"/>
            <p:cNvSpPr/>
            <p:nvPr/>
          </p:nvSpPr>
          <p:spPr>
            <a:xfrm>
              <a:off x="57240" y="391032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418320" y="4283280"/>
              <a:ext cx="1579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xternal acous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"/>
            <p:cNvSpPr/>
            <p:nvPr/>
          </p:nvSpPr>
          <p:spPr>
            <a:xfrm>
              <a:off x="7265520" y="514872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1"/>
            <p:cNvSpPr/>
            <p:nvPr/>
          </p:nvSpPr>
          <p:spPr>
            <a:xfrm>
              <a:off x="7268040" y="129708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onal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2"/>
            <p:cNvSpPr/>
            <p:nvPr/>
          </p:nvSpPr>
          <p:spPr>
            <a:xfrm>
              <a:off x="7272000" y="270036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thm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3"/>
            <p:cNvSpPr/>
            <p:nvPr/>
          </p:nvSpPr>
          <p:spPr>
            <a:xfrm>
              <a:off x="7269480" y="3424680"/>
              <a:ext cx="126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crim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4"/>
            <p:cNvSpPr/>
            <p:nvPr/>
          </p:nvSpPr>
          <p:spPr>
            <a:xfrm>
              <a:off x="7274520" y="3173760"/>
              <a:ext cx="99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Nas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5"/>
            <p:cNvSpPr/>
            <p:nvPr/>
          </p:nvSpPr>
          <p:spPr>
            <a:xfrm>
              <a:off x="7213320" y="4030920"/>
              <a:ext cx="185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nfraorbi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6"/>
            <p:cNvSpPr/>
            <p:nvPr/>
          </p:nvSpPr>
          <p:spPr>
            <a:xfrm>
              <a:off x="7267320" y="4323240"/>
              <a:ext cx="142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9"/>
            <p:cNvSpPr/>
            <p:nvPr/>
          </p:nvSpPr>
          <p:spPr>
            <a:xfrm>
              <a:off x="7266960" y="4590000"/>
              <a:ext cx="65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xi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0"/>
            <p:cNvSpPr/>
            <p:nvPr/>
          </p:nvSpPr>
          <p:spPr>
            <a:xfrm>
              <a:off x="7235640" y="5425200"/>
              <a:ext cx="144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n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1"/>
            <p:cNvSpPr/>
            <p:nvPr/>
          </p:nvSpPr>
          <p:spPr>
            <a:xfrm>
              <a:off x="69480" y="325620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ccipi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2"/>
            <p:cNvSpPr/>
            <p:nvPr/>
          </p:nvSpPr>
          <p:spPr>
            <a:xfrm>
              <a:off x="1353960" y="3351600"/>
              <a:ext cx="6508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3"/>
            <p:cNvSpPr/>
            <p:nvPr/>
          </p:nvSpPr>
          <p:spPr>
            <a:xfrm>
              <a:off x="69480" y="3659400"/>
              <a:ext cx="155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quamous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4"/>
            <p:cNvSpPr/>
            <p:nvPr/>
          </p:nvSpPr>
          <p:spPr>
            <a:xfrm>
              <a:off x="45360" y="5396400"/>
              <a:ext cx="177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ular condy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5"/>
            <p:cNvSpPr/>
            <p:nvPr/>
          </p:nvSpPr>
          <p:spPr>
            <a:xfrm>
              <a:off x="93240" y="5056920"/>
              <a:ext cx="133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tyloi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6"/>
            <p:cNvSpPr/>
            <p:nvPr/>
          </p:nvSpPr>
          <p:spPr>
            <a:xfrm>
              <a:off x="77760" y="4742280"/>
              <a:ext cx="144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stoi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7"/>
            <p:cNvSpPr/>
            <p:nvPr/>
          </p:nvSpPr>
          <p:spPr>
            <a:xfrm flipH="1">
              <a:off x="5056560" y="1725480"/>
              <a:ext cx="218448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 flipH="1">
              <a:off x="4154400" y="1386000"/>
              <a:ext cx="308628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5501160" y="2783160"/>
              <a:ext cx="1739880" cy="51732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108" h="331">
                  <a:moveTo>
                    <a:pt x="0" y="331"/>
                  </a:moveTo>
                  <a:lnTo>
                    <a:pt x="877" y="0"/>
                  </a:lnTo>
                  <a:lnTo>
                    <a:pt x="1108" y="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41"/>
            <p:cNvSpPr/>
            <p:nvPr/>
          </p:nvSpPr>
          <p:spPr>
            <a:xfrm>
              <a:off x="5637960" y="3507120"/>
              <a:ext cx="16034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2"/>
            <p:cNvSpPr/>
            <p:nvPr/>
          </p:nvSpPr>
          <p:spPr>
            <a:xfrm>
              <a:off x="6269760" y="3259440"/>
              <a:ext cx="9716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3"/>
            <p:cNvSpPr/>
            <p:nvPr/>
          </p:nvSpPr>
          <p:spPr>
            <a:xfrm>
              <a:off x="6022080" y="4116960"/>
              <a:ext cx="121932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5323320" y="4091400"/>
              <a:ext cx="1917720" cy="31104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221" h="199">
                  <a:moveTo>
                    <a:pt x="0" y="0"/>
                  </a:moveTo>
                  <a:lnTo>
                    <a:pt x="990" y="199"/>
                  </a:lnTo>
                  <a:lnTo>
                    <a:pt x="1221" y="19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6"/>
            <p:cNvSpPr/>
            <p:nvPr/>
          </p:nvSpPr>
          <p:spPr>
            <a:xfrm>
              <a:off x="6269760" y="4482000"/>
              <a:ext cx="971640" cy="1872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19" h="120">
                  <a:moveTo>
                    <a:pt x="0" y="0"/>
                  </a:moveTo>
                  <a:lnTo>
                    <a:pt x="388" y="120"/>
                  </a:lnTo>
                  <a:lnTo>
                    <a:pt x="619" y="12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7"/>
            <p:cNvSpPr/>
            <p:nvPr/>
          </p:nvSpPr>
          <p:spPr>
            <a:xfrm>
              <a:off x="6501600" y="5231520"/>
              <a:ext cx="73980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8"/>
            <p:cNvSpPr/>
            <p:nvPr/>
          </p:nvSpPr>
          <p:spPr>
            <a:xfrm>
              <a:off x="6215760" y="5498280"/>
              <a:ext cx="10256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9"/>
            <p:cNvSpPr/>
            <p:nvPr/>
          </p:nvSpPr>
          <p:spPr>
            <a:xfrm>
              <a:off x="1309680" y="2043000"/>
              <a:ext cx="11048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50"/>
            <p:cNvSpPr/>
            <p:nvPr/>
          </p:nvSpPr>
          <p:spPr>
            <a:xfrm>
              <a:off x="1420920" y="3999240"/>
              <a:ext cx="241308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1"/>
            <p:cNvSpPr/>
            <p:nvPr/>
          </p:nvSpPr>
          <p:spPr>
            <a:xfrm>
              <a:off x="1477800" y="2830680"/>
              <a:ext cx="49212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2"/>
            <p:cNvSpPr/>
            <p:nvPr/>
          </p:nvSpPr>
          <p:spPr>
            <a:xfrm>
              <a:off x="1398600" y="3090960"/>
              <a:ext cx="3277080" cy="187200"/>
            </a:xfrm>
            <a:custGeom>
              <a:avLst/>
              <a:gdLst>
                <a:gd name="textAreaLeft" fmla="*/ 0 w 3277080"/>
                <a:gd name="textAreaRight" fmla="*/ 3277440 w 32770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088" h="119">
                  <a:moveTo>
                    <a:pt x="0" y="0"/>
                  </a:moveTo>
                  <a:lnTo>
                    <a:pt x="1828" y="0"/>
                  </a:lnTo>
                  <a:lnTo>
                    <a:pt x="2088" y="11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53"/>
            <p:cNvSpPr/>
            <p:nvPr/>
          </p:nvSpPr>
          <p:spPr>
            <a:xfrm>
              <a:off x="1547640" y="3748320"/>
              <a:ext cx="175572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1620720" y="4447080"/>
              <a:ext cx="2686320" cy="1035000"/>
            </a:xfrm>
            <a:custGeom>
              <a:avLst/>
              <a:gdLst>
                <a:gd name="textAreaLeft" fmla="*/ 0 w 2686320"/>
                <a:gd name="textAreaRight" fmla="*/ 2686680 w 26863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1713" h="660">
                  <a:moveTo>
                    <a:pt x="1713" y="0"/>
                  </a:moveTo>
                  <a:lnTo>
                    <a:pt x="1713" y="660"/>
                  </a:lnTo>
                  <a:lnTo>
                    <a:pt x="0" y="66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1427040" y="4872600"/>
              <a:ext cx="2727720" cy="279360"/>
            </a:xfrm>
            <a:custGeom>
              <a:avLst/>
              <a:gdLst>
                <a:gd name="textAreaLeft" fmla="*/ 0 w 2727720"/>
                <a:gd name="textAreaRight" fmla="*/ 2728080 w 27277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39" h="179">
                  <a:moveTo>
                    <a:pt x="1739" y="0"/>
                  </a:moveTo>
                  <a:lnTo>
                    <a:pt x="1598" y="179"/>
                  </a:lnTo>
                  <a:lnTo>
                    <a:pt x="0" y="17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>
              <a:off x="1932120" y="4466160"/>
              <a:ext cx="203832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1458360" y="4834440"/>
              <a:ext cx="232740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61"/>
            <p:cNvSpPr/>
            <p:nvPr/>
          </p:nvSpPr>
          <p:spPr>
            <a:xfrm flipH="1">
              <a:off x="5056560" y="1722600"/>
              <a:ext cx="21844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63"/>
            <p:cNvSpPr/>
            <p:nvPr/>
          </p:nvSpPr>
          <p:spPr>
            <a:xfrm flipH="1">
              <a:off x="4154400" y="1382760"/>
              <a:ext cx="3086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4"/>
            <p:cNvSpPr/>
            <p:nvPr/>
          </p:nvSpPr>
          <p:spPr>
            <a:xfrm>
              <a:off x="5501160" y="2779920"/>
              <a:ext cx="1739880" cy="51732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108" h="331">
                  <a:moveTo>
                    <a:pt x="0" y="331"/>
                  </a:moveTo>
                  <a:lnTo>
                    <a:pt x="877" y="0"/>
                  </a:lnTo>
                  <a:lnTo>
                    <a:pt x="110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65"/>
            <p:cNvSpPr/>
            <p:nvPr/>
          </p:nvSpPr>
          <p:spPr>
            <a:xfrm>
              <a:off x="5637960" y="3503880"/>
              <a:ext cx="16034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6269760" y="3252960"/>
              <a:ext cx="9716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7"/>
            <p:cNvSpPr/>
            <p:nvPr/>
          </p:nvSpPr>
          <p:spPr>
            <a:xfrm>
              <a:off x="6022080" y="4113720"/>
              <a:ext cx="12193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8"/>
            <p:cNvSpPr/>
            <p:nvPr/>
          </p:nvSpPr>
          <p:spPr>
            <a:xfrm>
              <a:off x="5323320" y="4088160"/>
              <a:ext cx="1917720" cy="3078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221" h="196">
                  <a:moveTo>
                    <a:pt x="0" y="0"/>
                  </a:moveTo>
                  <a:lnTo>
                    <a:pt x="990" y="196"/>
                  </a:lnTo>
                  <a:lnTo>
                    <a:pt x="1221" y="19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0"/>
            <p:cNvSpPr/>
            <p:nvPr/>
          </p:nvSpPr>
          <p:spPr>
            <a:xfrm>
              <a:off x="6269760" y="4478760"/>
              <a:ext cx="971640" cy="1872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19" h="121">
                  <a:moveTo>
                    <a:pt x="0" y="0"/>
                  </a:moveTo>
                  <a:lnTo>
                    <a:pt x="388" y="121"/>
                  </a:lnTo>
                  <a:lnTo>
                    <a:pt x="619" y="1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71"/>
            <p:cNvSpPr/>
            <p:nvPr/>
          </p:nvSpPr>
          <p:spPr>
            <a:xfrm>
              <a:off x="6501600" y="5225040"/>
              <a:ext cx="7398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2"/>
            <p:cNvSpPr/>
            <p:nvPr/>
          </p:nvSpPr>
          <p:spPr>
            <a:xfrm>
              <a:off x="6215760" y="5495040"/>
              <a:ext cx="1025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73"/>
            <p:cNvSpPr/>
            <p:nvPr/>
          </p:nvSpPr>
          <p:spPr>
            <a:xfrm>
              <a:off x="1309680" y="2036880"/>
              <a:ext cx="1104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74"/>
            <p:cNvSpPr/>
            <p:nvPr/>
          </p:nvSpPr>
          <p:spPr>
            <a:xfrm>
              <a:off x="1477800" y="2827440"/>
              <a:ext cx="4921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5"/>
            <p:cNvSpPr/>
            <p:nvPr/>
          </p:nvSpPr>
          <p:spPr>
            <a:xfrm>
              <a:off x="1404720" y="3996000"/>
              <a:ext cx="2428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76"/>
            <p:cNvSpPr/>
            <p:nvPr/>
          </p:nvSpPr>
          <p:spPr>
            <a:xfrm>
              <a:off x="1353960" y="3360960"/>
              <a:ext cx="650880" cy="28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7"/>
            <p:cNvSpPr/>
            <p:nvPr/>
          </p:nvSpPr>
          <p:spPr>
            <a:xfrm>
              <a:off x="1398600" y="3088080"/>
              <a:ext cx="3277080" cy="183960"/>
            </a:xfrm>
            <a:custGeom>
              <a:avLst/>
              <a:gdLst>
                <a:gd name="textAreaLeft" fmla="*/ 0 w 3277080"/>
                <a:gd name="textAreaRight" fmla="*/ 3277440 w 32770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088" h="118">
                  <a:moveTo>
                    <a:pt x="0" y="0"/>
                  </a:moveTo>
                  <a:lnTo>
                    <a:pt x="1828" y="0"/>
                  </a:lnTo>
                  <a:lnTo>
                    <a:pt x="2088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8"/>
            <p:cNvSpPr/>
            <p:nvPr/>
          </p:nvSpPr>
          <p:spPr>
            <a:xfrm>
              <a:off x="1547640" y="3742200"/>
              <a:ext cx="17557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0"/>
            <p:cNvSpPr/>
            <p:nvPr/>
          </p:nvSpPr>
          <p:spPr>
            <a:xfrm>
              <a:off x="1623960" y="4447080"/>
              <a:ext cx="2679840" cy="103824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708" h="662">
                  <a:moveTo>
                    <a:pt x="1708" y="0"/>
                  </a:moveTo>
                  <a:lnTo>
                    <a:pt x="1706" y="662"/>
                  </a:lnTo>
                  <a:lnTo>
                    <a:pt x="0" y="6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81"/>
            <p:cNvSpPr/>
            <p:nvPr/>
          </p:nvSpPr>
          <p:spPr>
            <a:xfrm>
              <a:off x="1411200" y="4866120"/>
              <a:ext cx="2743560" cy="282600"/>
            </a:xfrm>
            <a:custGeom>
              <a:avLst/>
              <a:gdLst>
                <a:gd name="textAreaLeft" fmla="*/ 0 w 2743560"/>
                <a:gd name="textAreaRight" fmla="*/ 2743920 w 2743560"/>
                <a:gd name="textAreaTop" fmla="*/ 0 h 282600"/>
                <a:gd name="textAreaBottom" fmla="*/ 282600 h 282600"/>
              </a:gdLst>
              <a:ahLst/>
              <a:rect l="textAreaLeft" t="textAreaTop" r="textAreaRight" b="textAreaBottom"/>
              <a:pathLst>
                <a:path w="1750" h="180">
                  <a:moveTo>
                    <a:pt x="1750" y="0"/>
                  </a:moveTo>
                  <a:lnTo>
                    <a:pt x="1609" y="180"/>
                  </a:lnTo>
                  <a:lnTo>
                    <a:pt x="0" y="18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82"/>
            <p:cNvSpPr/>
            <p:nvPr/>
          </p:nvSpPr>
          <p:spPr>
            <a:xfrm>
              <a:off x="1938240" y="4469400"/>
              <a:ext cx="204156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83"/>
            <p:cNvSpPr/>
            <p:nvPr/>
          </p:nvSpPr>
          <p:spPr>
            <a:xfrm flipH="1">
              <a:off x="1458360" y="4831200"/>
              <a:ext cx="23274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6"/>
            <p:cNvSpPr/>
            <p:nvPr/>
          </p:nvSpPr>
          <p:spPr>
            <a:xfrm>
              <a:off x="3714120" y="5882400"/>
              <a:ext cx="185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(a) Right lateral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121"/>
          <p:cNvGrpSpPr/>
          <p:nvPr/>
        </p:nvGrpSpPr>
        <p:grpSpPr>
          <a:xfrm>
            <a:off x="83160" y="263520"/>
            <a:ext cx="9107640" cy="6227640"/>
            <a:chOff x="83160" y="263520"/>
            <a:chExt cx="9107640" cy="6227640"/>
          </a:xfrm>
        </p:grpSpPr>
        <p:pic>
          <p:nvPicPr>
            <p:cNvPr id="464" name="Picture 8" descr="sal25693_08_05a"/>
            <p:cNvPicPr/>
            <p:nvPr/>
          </p:nvPicPr>
          <p:blipFill>
            <a:blip r:embed="rId1"/>
            <a:stretch/>
          </p:blipFill>
          <p:spPr>
            <a:xfrm>
              <a:off x="2532600" y="263520"/>
              <a:ext cx="4029120" cy="59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Line 10"/>
            <p:cNvSpPr/>
            <p:nvPr/>
          </p:nvSpPr>
          <p:spPr>
            <a:xfrm>
              <a:off x="5501520" y="3806280"/>
              <a:ext cx="71280" cy="15408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309960" y="1329120"/>
              <a:ext cx="142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2"/>
            <p:cNvSpPr/>
            <p:nvPr/>
          </p:nvSpPr>
          <p:spPr>
            <a:xfrm>
              <a:off x="7166880" y="5040720"/>
              <a:ext cx="152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mbdoid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7155000" y="448056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oramen mag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7171920" y="4277520"/>
              <a:ext cx="14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Jugular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7176240" y="3826080"/>
              <a:ext cx="1184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arotid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9"/>
            <p:cNvSpPr/>
            <p:nvPr/>
          </p:nvSpPr>
          <p:spPr>
            <a:xfrm>
              <a:off x="7168320" y="1726200"/>
              <a:ext cx="122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latine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1"/>
            <p:cNvSpPr/>
            <p:nvPr/>
          </p:nvSpPr>
          <p:spPr>
            <a:xfrm>
              <a:off x="7136640" y="2266200"/>
              <a:ext cx="202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dial pterygoid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7135560" y="2517840"/>
              <a:ext cx="205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teral pterygoid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3"/>
            <p:cNvSpPr/>
            <p:nvPr/>
          </p:nvSpPr>
          <p:spPr>
            <a:xfrm>
              <a:off x="7173000" y="2829240"/>
              <a:ext cx="132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oramen ov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7"/>
            <p:cNvSpPr/>
            <p:nvPr/>
          </p:nvSpPr>
          <p:spPr>
            <a:xfrm>
              <a:off x="295920" y="2866320"/>
              <a:ext cx="131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8"/>
            <p:cNvSpPr/>
            <p:nvPr/>
          </p:nvSpPr>
          <p:spPr>
            <a:xfrm>
              <a:off x="295200" y="1797480"/>
              <a:ext cx="137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9"/>
            <p:cNvSpPr/>
            <p:nvPr/>
          </p:nvSpPr>
          <p:spPr>
            <a:xfrm>
              <a:off x="286920" y="3129120"/>
              <a:ext cx="154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ular fo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0"/>
            <p:cNvSpPr/>
            <p:nvPr/>
          </p:nvSpPr>
          <p:spPr>
            <a:xfrm>
              <a:off x="337680" y="3406320"/>
              <a:ext cx="133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tyloi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1"/>
            <p:cNvSpPr/>
            <p:nvPr/>
          </p:nvSpPr>
          <p:spPr>
            <a:xfrm>
              <a:off x="83160" y="3660120"/>
              <a:ext cx="22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xternal acoustic me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2"/>
            <p:cNvSpPr/>
            <p:nvPr/>
          </p:nvSpPr>
          <p:spPr>
            <a:xfrm>
              <a:off x="254520" y="4072320"/>
              <a:ext cx="148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stoid 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5"/>
            <p:cNvSpPr/>
            <p:nvPr/>
          </p:nvSpPr>
          <p:spPr>
            <a:xfrm>
              <a:off x="295920" y="448956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225000" y="588204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ccipi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4002120" y="6277680"/>
              <a:ext cx="142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(a) Inferior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214920" y="496728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199440" y="3838680"/>
              <a:ext cx="1573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ccipital  condy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497520" y="260640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V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3"/>
            <p:cNvSpPr/>
            <p:nvPr/>
          </p:nvSpPr>
          <p:spPr>
            <a:xfrm flipH="1">
              <a:off x="4524120" y="5672160"/>
              <a:ext cx="263448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4"/>
            <p:cNvSpPr/>
            <p:nvPr/>
          </p:nvSpPr>
          <p:spPr>
            <a:xfrm flipH="1">
              <a:off x="5938200" y="5134680"/>
              <a:ext cx="122004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5"/>
            <p:cNvSpPr/>
            <p:nvPr/>
          </p:nvSpPr>
          <p:spPr>
            <a:xfrm>
              <a:off x="4521240" y="4309200"/>
              <a:ext cx="2637360" cy="262800"/>
            </a:xfrm>
            <a:custGeom>
              <a:avLst/>
              <a:gdLst>
                <a:gd name="textAreaLeft" fmla="*/ 0 w 2637360"/>
                <a:gd name="textAreaRight" fmla="*/ 2637720 w 26373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459" h="146">
                  <a:moveTo>
                    <a:pt x="0" y="0"/>
                  </a:moveTo>
                  <a:lnTo>
                    <a:pt x="1159" y="146"/>
                  </a:lnTo>
                  <a:lnTo>
                    <a:pt x="1459" y="146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7"/>
            <p:cNvSpPr/>
            <p:nvPr/>
          </p:nvSpPr>
          <p:spPr>
            <a:xfrm>
              <a:off x="5290200" y="3846240"/>
              <a:ext cx="1868760" cy="516960"/>
            </a:xfrm>
            <a:custGeom>
              <a:avLst/>
              <a:gdLst>
                <a:gd name="textAreaLeft" fmla="*/ 0 w 1868760"/>
                <a:gd name="textAreaRight" fmla="*/ 1869120 w 186876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032" h="287">
                  <a:moveTo>
                    <a:pt x="0" y="0"/>
                  </a:moveTo>
                  <a:lnTo>
                    <a:pt x="732" y="287"/>
                  </a:lnTo>
                  <a:lnTo>
                    <a:pt x="1032" y="287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9"/>
            <p:cNvSpPr/>
            <p:nvPr/>
          </p:nvSpPr>
          <p:spPr>
            <a:xfrm>
              <a:off x="5427360" y="3626280"/>
              <a:ext cx="1731600" cy="294120"/>
            </a:xfrm>
            <a:custGeom>
              <a:avLst/>
              <a:gdLst>
                <a:gd name="textAreaLeft" fmla="*/ 0 w 1731600"/>
                <a:gd name="textAreaRight" fmla="*/ 1731960 w 173160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956" h="162">
                  <a:moveTo>
                    <a:pt x="0" y="0"/>
                  </a:moveTo>
                  <a:lnTo>
                    <a:pt x="656" y="162"/>
                  </a:lnTo>
                  <a:lnTo>
                    <a:pt x="956" y="162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1"/>
            <p:cNvSpPr/>
            <p:nvPr/>
          </p:nvSpPr>
          <p:spPr>
            <a:xfrm>
              <a:off x="4707000" y="1829160"/>
              <a:ext cx="2451600" cy="117000"/>
            </a:xfrm>
            <a:custGeom>
              <a:avLst/>
              <a:gdLst>
                <a:gd name="textAreaLeft" fmla="*/ 0 w 2451600"/>
                <a:gd name="textAreaRight" fmla="*/ 2451600 w 24516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55" h="65">
                  <a:moveTo>
                    <a:pt x="0" y="65"/>
                  </a:moveTo>
                  <a:lnTo>
                    <a:pt x="1055" y="0"/>
                  </a:lnTo>
                  <a:lnTo>
                    <a:pt x="1355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3"/>
            <p:cNvSpPr/>
            <p:nvPr/>
          </p:nvSpPr>
          <p:spPr>
            <a:xfrm>
              <a:off x="4870080" y="2357640"/>
              <a:ext cx="2288880" cy="219960"/>
            </a:xfrm>
            <a:custGeom>
              <a:avLst/>
              <a:gdLst>
                <a:gd name="textAreaLeft" fmla="*/ 0 w 2288880"/>
                <a:gd name="textAreaRight" fmla="*/ 2289240 w 22888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264" h="122">
                  <a:moveTo>
                    <a:pt x="1264" y="0"/>
                  </a:moveTo>
                  <a:lnTo>
                    <a:pt x="240" y="0"/>
                  </a:lnTo>
                  <a:lnTo>
                    <a:pt x="0" y="122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 flipH="1">
              <a:off x="5184360" y="2611800"/>
              <a:ext cx="19742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6"/>
            <p:cNvSpPr/>
            <p:nvPr/>
          </p:nvSpPr>
          <p:spPr>
            <a:xfrm>
              <a:off x="5415840" y="2926080"/>
              <a:ext cx="1742760" cy="114120"/>
            </a:xfrm>
            <a:custGeom>
              <a:avLst/>
              <a:gdLst>
                <a:gd name="textAreaLeft" fmla="*/ 0 w 1742760"/>
                <a:gd name="textAreaRight" fmla="*/ 1743120 w 1742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64" h="63">
                  <a:moveTo>
                    <a:pt x="0" y="63"/>
                  </a:moveTo>
                  <a:lnTo>
                    <a:pt x="664" y="0"/>
                  </a:lnTo>
                  <a:lnTo>
                    <a:pt x="964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0"/>
            <p:cNvSpPr/>
            <p:nvPr/>
          </p:nvSpPr>
          <p:spPr>
            <a:xfrm>
              <a:off x="1689480" y="1437480"/>
              <a:ext cx="1294200" cy="16848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4" h="94">
                  <a:moveTo>
                    <a:pt x="714" y="94"/>
                  </a:moveTo>
                  <a:lnTo>
                    <a:pt x="381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62"/>
            <p:cNvSpPr/>
            <p:nvPr/>
          </p:nvSpPr>
          <p:spPr>
            <a:xfrm>
              <a:off x="1640880" y="2971800"/>
              <a:ext cx="19400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3"/>
            <p:cNvSpPr/>
            <p:nvPr/>
          </p:nvSpPr>
          <p:spPr>
            <a:xfrm>
              <a:off x="1786680" y="3234960"/>
              <a:ext cx="122580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4"/>
            <p:cNvSpPr/>
            <p:nvPr/>
          </p:nvSpPr>
          <p:spPr>
            <a:xfrm>
              <a:off x="1658160" y="3506400"/>
              <a:ext cx="160848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5"/>
            <p:cNvSpPr/>
            <p:nvPr/>
          </p:nvSpPr>
          <p:spPr>
            <a:xfrm>
              <a:off x="2326680" y="3760560"/>
              <a:ext cx="5198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66"/>
            <p:cNvSpPr/>
            <p:nvPr/>
          </p:nvSpPr>
          <p:spPr>
            <a:xfrm>
              <a:off x="1717920" y="4188960"/>
              <a:ext cx="11084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>
              <a:off x="1629360" y="4509000"/>
              <a:ext cx="1180080" cy="9396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52" h="52">
                  <a:moveTo>
                    <a:pt x="652" y="0"/>
                  </a:moveTo>
                  <a:lnTo>
                    <a:pt x="415" y="52"/>
                  </a:lnTo>
                  <a:lnTo>
                    <a:pt x="0" y="52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2"/>
            <p:cNvSpPr/>
            <p:nvPr/>
          </p:nvSpPr>
          <p:spPr>
            <a:xfrm>
              <a:off x="1578240" y="6032160"/>
              <a:ext cx="284292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73"/>
            <p:cNvSpPr/>
            <p:nvPr/>
          </p:nvSpPr>
          <p:spPr>
            <a:xfrm>
              <a:off x="1518120" y="5097600"/>
              <a:ext cx="14486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74"/>
            <p:cNvSpPr/>
            <p:nvPr/>
          </p:nvSpPr>
          <p:spPr>
            <a:xfrm>
              <a:off x="1766520" y="3969000"/>
              <a:ext cx="223452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75"/>
            <p:cNvSpPr/>
            <p:nvPr/>
          </p:nvSpPr>
          <p:spPr>
            <a:xfrm>
              <a:off x="2378160" y="1897560"/>
              <a:ext cx="408600" cy="13428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6"/>
            <p:cNvSpPr/>
            <p:nvPr/>
          </p:nvSpPr>
          <p:spPr>
            <a:xfrm>
              <a:off x="1075320" y="2720520"/>
              <a:ext cx="340020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7"/>
            <p:cNvSpPr/>
            <p:nvPr/>
          </p:nvSpPr>
          <p:spPr>
            <a:xfrm>
              <a:off x="1652400" y="1897560"/>
              <a:ext cx="1017000" cy="514080"/>
            </a:xfrm>
            <a:custGeom>
              <a:avLst/>
              <a:gdLst>
                <a:gd name="textAreaLeft" fmla="*/ 0 w 1017000"/>
                <a:gd name="textAreaRight" fmla="*/ 1017360 w 101700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563" h="284">
                  <a:moveTo>
                    <a:pt x="563" y="284"/>
                  </a:moveTo>
                  <a:lnTo>
                    <a:pt x="402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9"/>
            <p:cNvSpPr/>
            <p:nvPr/>
          </p:nvSpPr>
          <p:spPr>
            <a:xfrm>
              <a:off x="4118400" y="2311920"/>
              <a:ext cx="348480" cy="6264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93" h="34">
                  <a:moveTo>
                    <a:pt x="193" y="0"/>
                  </a:moveTo>
                  <a:lnTo>
                    <a:pt x="193" y="34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80"/>
            <p:cNvSpPr/>
            <p:nvPr/>
          </p:nvSpPr>
          <p:spPr>
            <a:xfrm flipH="1">
              <a:off x="4524120" y="5666400"/>
              <a:ext cx="26344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1"/>
            <p:cNvSpPr/>
            <p:nvPr/>
          </p:nvSpPr>
          <p:spPr>
            <a:xfrm flipH="1">
              <a:off x="5938200" y="5129280"/>
              <a:ext cx="12200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2"/>
            <p:cNvSpPr/>
            <p:nvPr/>
          </p:nvSpPr>
          <p:spPr>
            <a:xfrm>
              <a:off x="4521240" y="4303440"/>
              <a:ext cx="2637360" cy="262800"/>
            </a:xfrm>
            <a:custGeom>
              <a:avLst/>
              <a:gdLst>
                <a:gd name="textAreaLeft" fmla="*/ 0 w 2637360"/>
                <a:gd name="textAreaRight" fmla="*/ 2637720 w 26373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459" h="146">
                  <a:moveTo>
                    <a:pt x="0" y="0"/>
                  </a:moveTo>
                  <a:lnTo>
                    <a:pt x="1159" y="146"/>
                  </a:lnTo>
                  <a:lnTo>
                    <a:pt x="1459" y="1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84"/>
            <p:cNvSpPr/>
            <p:nvPr/>
          </p:nvSpPr>
          <p:spPr>
            <a:xfrm>
              <a:off x="5290200" y="3837600"/>
              <a:ext cx="1868760" cy="519840"/>
            </a:xfrm>
            <a:custGeom>
              <a:avLst/>
              <a:gdLst>
                <a:gd name="textAreaLeft" fmla="*/ 0 w 1868760"/>
                <a:gd name="textAreaRight" fmla="*/ 1869120 w 186876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032" h="289">
                  <a:moveTo>
                    <a:pt x="0" y="0"/>
                  </a:moveTo>
                  <a:lnTo>
                    <a:pt x="732" y="289"/>
                  </a:lnTo>
                  <a:lnTo>
                    <a:pt x="1032" y="28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6"/>
            <p:cNvSpPr/>
            <p:nvPr/>
          </p:nvSpPr>
          <p:spPr>
            <a:xfrm>
              <a:off x="5427360" y="3626280"/>
              <a:ext cx="1731600" cy="291240"/>
            </a:xfrm>
            <a:custGeom>
              <a:avLst/>
              <a:gdLst>
                <a:gd name="textAreaLeft" fmla="*/ 0 w 1731600"/>
                <a:gd name="textAreaRight" fmla="*/ 1731960 w 17316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956" h="161">
                  <a:moveTo>
                    <a:pt x="0" y="0"/>
                  </a:moveTo>
                  <a:lnTo>
                    <a:pt x="656" y="161"/>
                  </a:lnTo>
                  <a:lnTo>
                    <a:pt x="956" y="1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8"/>
            <p:cNvSpPr/>
            <p:nvPr/>
          </p:nvSpPr>
          <p:spPr>
            <a:xfrm>
              <a:off x="4707000" y="1823400"/>
              <a:ext cx="2451600" cy="119880"/>
            </a:xfrm>
            <a:custGeom>
              <a:avLst/>
              <a:gdLst>
                <a:gd name="textAreaLeft" fmla="*/ 0 w 2451600"/>
                <a:gd name="textAreaRight" fmla="*/ 2451600 w 24516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355" h="66">
                  <a:moveTo>
                    <a:pt x="0" y="66"/>
                  </a:moveTo>
                  <a:lnTo>
                    <a:pt x="1055" y="0"/>
                  </a:lnTo>
                  <a:lnTo>
                    <a:pt x="135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0"/>
            <p:cNvSpPr/>
            <p:nvPr/>
          </p:nvSpPr>
          <p:spPr>
            <a:xfrm>
              <a:off x="4870080" y="2351880"/>
              <a:ext cx="2288880" cy="222840"/>
            </a:xfrm>
            <a:custGeom>
              <a:avLst/>
              <a:gdLst>
                <a:gd name="textAreaLeft" fmla="*/ 0 w 2288880"/>
                <a:gd name="textAreaRight" fmla="*/ 2289240 w 22888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64" h="123">
                  <a:moveTo>
                    <a:pt x="1264" y="0"/>
                  </a:moveTo>
                  <a:lnTo>
                    <a:pt x="240" y="0"/>
                  </a:lnTo>
                  <a:lnTo>
                    <a:pt x="0" y="12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91"/>
            <p:cNvSpPr/>
            <p:nvPr/>
          </p:nvSpPr>
          <p:spPr>
            <a:xfrm flipH="1">
              <a:off x="5184360" y="2603520"/>
              <a:ext cx="19742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93"/>
            <p:cNvSpPr/>
            <p:nvPr/>
          </p:nvSpPr>
          <p:spPr>
            <a:xfrm>
              <a:off x="5415840" y="2923560"/>
              <a:ext cx="1742760" cy="111240"/>
            </a:xfrm>
            <a:custGeom>
              <a:avLst/>
              <a:gdLst>
                <a:gd name="textAreaLeft" fmla="*/ 0 w 1742760"/>
                <a:gd name="textAreaRight" fmla="*/ 1743120 w 1742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64" h="62">
                  <a:moveTo>
                    <a:pt x="0" y="62"/>
                  </a:moveTo>
                  <a:lnTo>
                    <a:pt x="664" y="0"/>
                  </a:lnTo>
                  <a:lnTo>
                    <a:pt x="96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97"/>
            <p:cNvSpPr/>
            <p:nvPr/>
          </p:nvSpPr>
          <p:spPr>
            <a:xfrm>
              <a:off x="1689480" y="1429200"/>
              <a:ext cx="1294200" cy="17424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714" h="97">
                  <a:moveTo>
                    <a:pt x="714" y="97"/>
                  </a:moveTo>
                  <a:lnTo>
                    <a:pt x="381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99"/>
            <p:cNvSpPr/>
            <p:nvPr/>
          </p:nvSpPr>
          <p:spPr>
            <a:xfrm>
              <a:off x="1640880" y="2968920"/>
              <a:ext cx="19400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00"/>
            <p:cNvSpPr/>
            <p:nvPr/>
          </p:nvSpPr>
          <p:spPr>
            <a:xfrm>
              <a:off x="1786680" y="3229200"/>
              <a:ext cx="12258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01"/>
            <p:cNvSpPr/>
            <p:nvPr/>
          </p:nvSpPr>
          <p:spPr>
            <a:xfrm>
              <a:off x="1658160" y="3503520"/>
              <a:ext cx="16084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02"/>
            <p:cNvSpPr/>
            <p:nvPr/>
          </p:nvSpPr>
          <p:spPr>
            <a:xfrm>
              <a:off x="2326680" y="3749040"/>
              <a:ext cx="5198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03"/>
            <p:cNvSpPr/>
            <p:nvPr/>
          </p:nvSpPr>
          <p:spPr>
            <a:xfrm>
              <a:off x="1717920" y="4180680"/>
              <a:ext cx="11084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5"/>
            <p:cNvSpPr/>
            <p:nvPr/>
          </p:nvSpPr>
          <p:spPr>
            <a:xfrm>
              <a:off x="1629360" y="4503240"/>
              <a:ext cx="1180080" cy="9684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2" h="52">
                  <a:moveTo>
                    <a:pt x="652" y="0"/>
                  </a:moveTo>
                  <a:lnTo>
                    <a:pt x="415" y="52"/>
                  </a:lnTo>
                  <a:lnTo>
                    <a:pt x="0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9"/>
            <p:cNvSpPr/>
            <p:nvPr/>
          </p:nvSpPr>
          <p:spPr>
            <a:xfrm>
              <a:off x="1578240" y="6023520"/>
              <a:ext cx="2842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0"/>
            <p:cNvSpPr/>
            <p:nvPr/>
          </p:nvSpPr>
          <p:spPr>
            <a:xfrm>
              <a:off x="1518120" y="5094720"/>
              <a:ext cx="14486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11"/>
            <p:cNvSpPr/>
            <p:nvPr/>
          </p:nvSpPr>
          <p:spPr>
            <a:xfrm>
              <a:off x="1766520" y="3963240"/>
              <a:ext cx="223452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12"/>
            <p:cNvSpPr/>
            <p:nvPr/>
          </p:nvSpPr>
          <p:spPr>
            <a:xfrm>
              <a:off x="2378160" y="1894680"/>
              <a:ext cx="408600" cy="13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13"/>
            <p:cNvSpPr/>
            <p:nvPr/>
          </p:nvSpPr>
          <p:spPr>
            <a:xfrm>
              <a:off x="1075320" y="2714760"/>
              <a:ext cx="34002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"/>
            <p:cNvSpPr/>
            <p:nvPr/>
          </p:nvSpPr>
          <p:spPr>
            <a:xfrm>
              <a:off x="1652400" y="1894680"/>
              <a:ext cx="1017000" cy="511200"/>
            </a:xfrm>
            <a:custGeom>
              <a:avLst/>
              <a:gdLst>
                <a:gd name="textAreaLeft" fmla="*/ 0 w 1017000"/>
                <a:gd name="textAreaRight" fmla="*/ 1017360 w 101700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63" h="282">
                  <a:moveTo>
                    <a:pt x="563" y="282"/>
                  </a:moveTo>
                  <a:lnTo>
                    <a:pt x="40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6"/>
            <p:cNvSpPr/>
            <p:nvPr/>
          </p:nvSpPr>
          <p:spPr>
            <a:xfrm>
              <a:off x="4118400" y="2309040"/>
              <a:ext cx="348480" cy="6264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93" h="34">
                  <a:moveTo>
                    <a:pt x="193" y="0"/>
                  </a:moveTo>
                  <a:lnTo>
                    <a:pt x="193" y="34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17"/>
            <p:cNvSpPr/>
            <p:nvPr/>
          </p:nvSpPr>
          <p:spPr>
            <a:xfrm>
              <a:off x="5495760" y="3806280"/>
              <a:ext cx="68400" cy="13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21"/>
            <p:cNvSpPr/>
            <p:nvPr/>
          </p:nvSpPr>
          <p:spPr>
            <a:xfrm>
              <a:off x="7171200" y="5577840"/>
              <a:ext cx="1640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xternal occi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rotub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-52920" y="138240"/>
            <a:ext cx="9189360" cy="6481080"/>
            <a:chOff x="-52920" y="138240"/>
            <a:chExt cx="9189360" cy="6481080"/>
          </a:xfrm>
        </p:grpSpPr>
        <p:pic>
          <p:nvPicPr>
            <p:cNvPr id="536" name="Picture 8" descr="sal25693_08_05b"/>
            <p:cNvPicPr/>
            <p:nvPr/>
          </p:nvPicPr>
          <p:blipFill>
            <a:blip r:embed="rId1"/>
            <a:stretch/>
          </p:blipFill>
          <p:spPr>
            <a:xfrm>
              <a:off x="2151000" y="138240"/>
              <a:ext cx="4759200" cy="61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Line 10"/>
            <p:cNvSpPr/>
            <p:nvPr/>
          </p:nvSpPr>
          <p:spPr>
            <a:xfrm>
              <a:off x="4602240" y="2761200"/>
              <a:ext cx="273996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4649760" y="878040"/>
              <a:ext cx="101520" cy="7808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56" h="424">
                  <a:moveTo>
                    <a:pt x="0" y="0"/>
                  </a:moveTo>
                  <a:lnTo>
                    <a:pt x="56" y="0"/>
                  </a:lnTo>
                  <a:lnTo>
                    <a:pt x="56" y="424"/>
                  </a:lnTo>
                  <a:lnTo>
                    <a:pt x="0" y="424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"/>
            <p:cNvSpPr/>
            <p:nvPr/>
          </p:nvSpPr>
          <p:spPr>
            <a:xfrm>
              <a:off x="4748400" y="1258920"/>
              <a:ext cx="259380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"/>
            <p:cNvSpPr/>
            <p:nvPr/>
          </p:nvSpPr>
          <p:spPr>
            <a:xfrm>
              <a:off x="4484520" y="2243520"/>
              <a:ext cx="285732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5"/>
            <p:cNvSpPr/>
            <p:nvPr/>
          </p:nvSpPr>
          <p:spPr>
            <a:xfrm>
              <a:off x="5294160" y="954360"/>
              <a:ext cx="204768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5992920" y="3339000"/>
              <a:ext cx="134928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8"/>
            <p:cNvSpPr/>
            <p:nvPr/>
          </p:nvSpPr>
          <p:spPr>
            <a:xfrm>
              <a:off x="6434280" y="4250520"/>
              <a:ext cx="90792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9"/>
            <p:cNvSpPr/>
            <p:nvPr/>
          </p:nvSpPr>
          <p:spPr>
            <a:xfrm>
              <a:off x="5716440" y="4996800"/>
              <a:ext cx="162540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0"/>
            <p:cNvSpPr/>
            <p:nvPr/>
          </p:nvSpPr>
          <p:spPr>
            <a:xfrm>
              <a:off x="4516560" y="4618800"/>
              <a:ext cx="282564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3"/>
            <p:cNvSpPr/>
            <p:nvPr/>
          </p:nvSpPr>
          <p:spPr>
            <a:xfrm>
              <a:off x="4649760" y="874800"/>
              <a:ext cx="98280" cy="777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53" h="423">
                  <a:moveTo>
                    <a:pt x="0" y="0"/>
                  </a:moveTo>
                  <a:lnTo>
                    <a:pt x="53" y="0"/>
                  </a:lnTo>
                  <a:lnTo>
                    <a:pt x="53" y="423"/>
                  </a:lnTo>
                  <a:lnTo>
                    <a:pt x="0" y="42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4"/>
            <p:cNvSpPr/>
            <p:nvPr/>
          </p:nvSpPr>
          <p:spPr>
            <a:xfrm>
              <a:off x="3304800" y="6390720"/>
              <a:ext cx="305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b) Superior view of cranial flo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4"/>
            <p:cNvSpPr/>
            <p:nvPr/>
          </p:nvSpPr>
          <p:spPr>
            <a:xfrm>
              <a:off x="4748400" y="1252800"/>
              <a:ext cx="25938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35"/>
            <p:cNvSpPr/>
            <p:nvPr/>
          </p:nvSpPr>
          <p:spPr>
            <a:xfrm>
              <a:off x="7409160" y="2142000"/>
              <a:ext cx="141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6"/>
            <p:cNvSpPr/>
            <p:nvPr/>
          </p:nvSpPr>
          <p:spPr>
            <a:xfrm>
              <a:off x="4484520" y="2237040"/>
              <a:ext cx="28573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37"/>
            <p:cNvSpPr/>
            <p:nvPr/>
          </p:nvSpPr>
          <p:spPr>
            <a:xfrm>
              <a:off x="7385760" y="324072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8"/>
            <p:cNvSpPr/>
            <p:nvPr/>
          </p:nvSpPr>
          <p:spPr>
            <a:xfrm>
              <a:off x="5992920" y="3332520"/>
              <a:ext cx="134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0"/>
            <p:cNvSpPr/>
            <p:nvPr/>
          </p:nvSpPr>
          <p:spPr>
            <a:xfrm>
              <a:off x="7387200" y="4158360"/>
              <a:ext cx="127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1"/>
            <p:cNvSpPr/>
            <p:nvPr/>
          </p:nvSpPr>
          <p:spPr>
            <a:xfrm>
              <a:off x="6434280" y="4244040"/>
              <a:ext cx="907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2"/>
            <p:cNvSpPr/>
            <p:nvPr/>
          </p:nvSpPr>
          <p:spPr>
            <a:xfrm>
              <a:off x="7399800" y="4898160"/>
              <a:ext cx="136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ccipit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3"/>
            <p:cNvSpPr/>
            <p:nvPr/>
          </p:nvSpPr>
          <p:spPr>
            <a:xfrm>
              <a:off x="5716440" y="4990320"/>
              <a:ext cx="16254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44"/>
            <p:cNvSpPr/>
            <p:nvPr/>
          </p:nvSpPr>
          <p:spPr>
            <a:xfrm>
              <a:off x="7406640" y="2545560"/>
              <a:ext cx="1227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Hypophyse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s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45"/>
            <p:cNvSpPr/>
            <p:nvPr/>
          </p:nvSpPr>
          <p:spPr>
            <a:xfrm>
              <a:off x="4602240" y="2757960"/>
              <a:ext cx="273996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46"/>
            <p:cNvSpPr/>
            <p:nvPr/>
          </p:nvSpPr>
          <p:spPr>
            <a:xfrm>
              <a:off x="7394400" y="843120"/>
              <a:ext cx="121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ront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47"/>
            <p:cNvSpPr/>
            <p:nvPr/>
          </p:nvSpPr>
          <p:spPr>
            <a:xfrm>
              <a:off x="5294160" y="947880"/>
              <a:ext cx="20476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48"/>
            <p:cNvSpPr/>
            <p:nvPr/>
          </p:nvSpPr>
          <p:spPr>
            <a:xfrm>
              <a:off x="143280" y="2311200"/>
              <a:ext cx="137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ptic fora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9"/>
            <p:cNvSpPr/>
            <p:nvPr/>
          </p:nvSpPr>
          <p:spPr>
            <a:xfrm>
              <a:off x="1582560" y="2449800"/>
              <a:ext cx="2558880" cy="2880"/>
            </a:xfrm>
            <a:custGeom>
              <a:avLst/>
              <a:gdLst>
                <a:gd name="textAreaLeft" fmla="*/ 0 w 2558880"/>
                <a:gd name="textAreaRight" fmla="*/ 2559240 w 2558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394" h="1588">
                  <a:moveTo>
                    <a:pt x="0" y="0"/>
                  </a:moveTo>
                  <a:lnTo>
                    <a:pt x="271" y="0"/>
                  </a:lnTo>
                  <a:lnTo>
                    <a:pt x="1394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50"/>
            <p:cNvSpPr/>
            <p:nvPr/>
          </p:nvSpPr>
          <p:spPr>
            <a:xfrm>
              <a:off x="1865160" y="2786400"/>
              <a:ext cx="207936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51"/>
            <p:cNvSpPr/>
            <p:nvPr/>
          </p:nvSpPr>
          <p:spPr>
            <a:xfrm>
              <a:off x="1582560" y="3066120"/>
              <a:ext cx="212724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3"/>
            <p:cNvSpPr/>
            <p:nvPr/>
          </p:nvSpPr>
          <p:spPr>
            <a:xfrm>
              <a:off x="1681200" y="4056840"/>
              <a:ext cx="2016000" cy="1936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98" h="105">
                  <a:moveTo>
                    <a:pt x="0" y="105"/>
                  </a:moveTo>
                  <a:lnTo>
                    <a:pt x="1074" y="105"/>
                  </a:lnTo>
                  <a:lnTo>
                    <a:pt x="1098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54"/>
            <p:cNvSpPr/>
            <p:nvPr/>
          </p:nvSpPr>
          <p:spPr>
            <a:xfrm>
              <a:off x="1681200" y="3650400"/>
              <a:ext cx="192708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5"/>
            <p:cNvSpPr/>
            <p:nvPr/>
          </p:nvSpPr>
          <p:spPr>
            <a:xfrm>
              <a:off x="1582560" y="2446560"/>
              <a:ext cx="2558880" cy="360"/>
            </a:xfrm>
            <a:custGeom>
              <a:avLst/>
              <a:gdLst/>
              <a:ahLst/>
              <a:rect l="l" t="t" r="r" b="b"/>
              <a:pathLst>
                <a:path w="1394" h="0">
                  <a:moveTo>
                    <a:pt x="0" y="0"/>
                  </a:moveTo>
                  <a:lnTo>
                    <a:pt x="271" y="0"/>
                  </a:lnTo>
                  <a:lnTo>
                    <a:pt x="139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6"/>
            <p:cNvSpPr/>
            <p:nvPr/>
          </p:nvSpPr>
          <p:spPr>
            <a:xfrm>
              <a:off x="1681200" y="4050360"/>
              <a:ext cx="2016000" cy="1936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98" h="105">
                  <a:moveTo>
                    <a:pt x="0" y="105"/>
                  </a:moveTo>
                  <a:lnTo>
                    <a:pt x="1074" y="105"/>
                  </a:lnTo>
                  <a:lnTo>
                    <a:pt x="109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57"/>
            <p:cNvSpPr/>
            <p:nvPr/>
          </p:nvSpPr>
          <p:spPr>
            <a:xfrm>
              <a:off x="-52920" y="2644560"/>
              <a:ext cx="187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ramen rotund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1865160" y="2780280"/>
              <a:ext cx="207936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59"/>
            <p:cNvSpPr/>
            <p:nvPr/>
          </p:nvSpPr>
          <p:spPr>
            <a:xfrm>
              <a:off x="111960" y="2934720"/>
              <a:ext cx="1413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ramen ova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0"/>
            <p:cNvSpPr/>
            <p:nvPr/>
          </p:nvSpPr>
          <p:spPr>
            <a:xfrm>
              <a:off x="1582560" y="3062880"/>
              <a:ext cx="21272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>
              <a:off x="1681200" y="3647160"/>
              <a:ext cx="1927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4"/>
            <p:cNvSpPr/>
            <p:nvPr/>
          </p:nvSpPr>
          <p:spPr>
            <a:xfrm>
              <a:off x="7373880" y="4526640"/>
              <a:ext cx="176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ramen magn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5"/>
            <p:cNvSpPr/>
            <p:nvPr/>
          </p:nvSpPr>
          <p:spPr>
            <a:xfrm>
              <a:off x="4516560" y="4612320"/>
              <a:ext cx="28256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8"/>
            <p:cNvSpPr/>
            <p:nvPr/>
          </p:nvSpPr>
          <p:spPr>
            <a:xfrm>
              <a:off x="111600" y="4115880"/>
              <a:ext cx="156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Jugular fora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75"/>
            <p:cNvSpPr/>
            <p:nvPr/>
          </p:nvSpPr>
          <p:spPr>
            <a:xfrm>
              <a:off x="39600" y="3462480"/>
              <a:ext cx="1709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Internal acoust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meat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78"/>
            <p:cNvSpPr/>
            <p:nvPr/>
          </p:nvSpPr>
          <p:spPr>
            <a:xfrm>
              <a:off x="7386840" y="1157400"/>
              <a:ext cx="1660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Cribriform pl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f ethmoid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37"/>
          <p:cNvGrpSpPr/>
          <p:nvPr/>
        </p:nvGrpSpPr>
        <p:grpSpPr>
          <a:xfrm>
            <a:off x="770040" y="585720"/>
            <a:ext cx="8039160" cy="5298480"/>
            <a:chOff x="770040" y="585720"/>
            <a:chExt cx="8039160" cy="5298480"/>
          </a:xfrm>
        </p:grpSpPr>
        <p:pic>
          <p:nvPicPr>
            <p:cNvPr id="580" name="Picture 10" descr="sal25693_08_22a"/>
            <p:cNvPicPr/>
            <p:nvPr/>
          </p:nvPicPr>
          <p:blipFill>
            <a:blip r:embed="rId1"/>
            <a:stretch/>
          </p:blipFill>
          <p:spPr>
            <a:xfrm>
              <a:off x="2342520" y="801720"/>
              <a:ext cx="473760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2"/>
            <p:cNvSpPr/>
            <p:nvPr/>
          </p:nvSpPr>
          <p:spPr>
            <a:xfrm>
              <a:off x="919440" y="110340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pinous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3"/>
            <p:cNvSpPr/>
            <p:nvPr/>
          </p:nvSpPr>
          <p:spPr>
            <a:xfrm>
              <a:off x="6522840" y="154116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2618280" y="1751760"/>
              <a:ext cx="1194120" cy="511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511920"/>
                <a:gd name="textAreaBottom" fmla="*/ 511920 h 511920"/>
              </a:gdLst>
              <a:ahLst/>
              <a:rect l="textAreaLeft" t="textAreaTop" r="textAreaRight" b="textAreaBottom"/>
              <a:pathLst>
                <a:path w="741" h="317">
                  <a:moveTo>
                    <a:pt x="0" y="0"/>
                  </a:moveTo>
                  <a:lnTo>
                    <a:pt x="676" y="0"/>
                  </a:lnTo>
                  <a:lnTo>
                    <a:pt x="741" y="3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5"/>
            <p:cNvSpPr/>
            <p:nvPr/>
          </p:nvSpPr>
          <p:spPr>
            <a:xfrm>
              <a:off x="1969920" y="2687760"/>
              <a:ext cx="6937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2561400" y="1251360"/>
              <a:ext cx="206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7"/>
            <p:cNvSpPr/>
            <p:nvPr/>
          </p:nvSpPr>
          <p:spPr>
            <a:xfrm>
              <a:off x="6490800" y="3083040"/>
              <a:ext cx="72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ed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>
              <a:off x="1315800" y="4149720"/>
              <a:ext cx="34549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9"/>
            <p:cNvSpPr/>
            <p:nvPr/>
          </p:nvSpPr>
          <p:spPr>
            <a:xfrm>
              <a:off x="813960" y="401040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Bo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2723400" y="3003480"/>
              <a:ext cx="1751760" cy="335520"/>
            </a:xfrm>
            <a:custGeom>
              <a:avLst/>
              <a:gdLst>
                <a:gd name="textAreaLeft" fmla="*/ 0 w 1751760"/>
                <a:gd name="textAreaRight" fmla="*/ 1752120 w 17517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1089" h="208">
                  <a:moveTo>
                    <a:pt x="0" y="208"/>
                  </a:moveTo>
                  <a:lnTo>
                    <a:pt x="376" y="208"/>
                  </a:lnTo>
                  <a:lnTo>
                    <a:pt x="10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5095440" y="1680840"/>
              <a:ext cx="1359000" cy="72504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845" h="449">
                  <a:moveTo>
                    <a:pt x="0" y="449"/>
                  </a:moveTo>
                  <a:lnTo>
                    <a:pt x="108" y="0"/>
                  </a:lnTo>
                  <a:lnTo>
                    <a:pt x="84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 flipH="1">
              <a:off x="5766120" y="3216960"/>
              <a:ext cx="6368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930600" y="5640480"/>
              <a:ext cx="283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(a) 2nd lumbar vertebra (L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4"/>
            <p:cNvSpPr/>
            <p:nvPr/>
          </p:nvSpPr>
          <p:spPr>
            <a:xfrm>
              <a:off x="4247640" y="5313240"/>
              <a:ext cx="85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5"/>
            <p:cNvSpPr/>
            <p:nvPr/>
          </p:nvSpPr>
          <p:spPr>
            <a:xfrm>
              <a:off x="4215240" y="585720"/>
              <a:ext cx="93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oster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6"/>
            <p:cNvSpPr/>
            <p:nvPr/>
          </p:nvSpPr>
          <p:spPr>
            <a:xfrm>
              <a:off x="7233840" y="1430280"/>
              <a:ext cx="181800" cy="197964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12" h="1229">
                  <a:moveTo>
                    <a:pt x="0" y="1229"/>
                  </a:moveTo>
                  <a:lnTo>
                    <a:pt x="112" y="1229"/>
                  </a:lnTo>
                  <a:lnTo>
                    <a:pt x="11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>
              <a:off x="7416000" y="2417400"/>
              <a:ext cx="1846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8"/>
            <p:cNvSpPr/>
            <p:nvPr/>
          </p:nvSpPr>
          <p:spPr>
            <a:xfrm>
              <a:off x="875160" y="1572480"/>
              <a:ext cx="1882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uperior articu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fac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770040" y="2525400"/>
              <a:ext cx="15580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Transver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770040" y="3182760"/>
              <a:ext cx="217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Vertebral fora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7663320" y="2280960"/>
              <a:ext cx="1145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8"/>
          <p:cNvGrpSpPr/>
          <p:nvPr/>
        </p:nvGrpSpPr>
        <p:grpSpPr>
          <a:xfrm>
            <a:off x="74520" y="349200"/>
            <a:ext cx="8521200" cy="5985000"/>
            <a:chOff x="74520" y="349200"/>
            <a:chExt cx="8521200" cy="5985000"/>
          </a:xfrm>
        </p:grpSpPr>
        <p:pic>
          <p:nvPicPr>
            <p:cNvPr id="602" name="Picture 10" descr="sal25693_08_23b"/>
            <p:cNvPicPr/>
            <p:nvPr/>
          </p:nvPicPr>
          <p:blipFill>
            <a:blip r:embed="rId1"/>
            <a:stretch/>
          </p:blipFill>
          <p:spPr>
            <a:xfrm>
              <a:off x="74520" y="349200"/>
              <a:ext cx="467172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Rectangle 12"/>
            <p:cNvSpPr/>
            <p:nvPr/>
          </p:nvSpPr>
          <p:spPr>
            <a:xfrm>
              <a:off x="998640" y="1609560"/>
              <a:ext cx="2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"/>
            <p:cNvSpPr/>
            <p:nvPr/>
          </p:nvSpPr>
          <p:spPr>
            <a:xfrm>
              <a:off x="998640" y="3291120"/>
              <a:ext cx="2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4"/>
            <p:cNvSpPr/>
            <p:nvPr/>
          </p:nvSpPr>
          <p:spPr>
            <a:xfrm>
              <a:off x="998640" y="4843440"/>
              <a:ext cx="2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"/>
            <p:cNvSpPr/>
            <p:nvPr/>
          </p:nvSpPr>
          <p:spPr>
            <a:xfrm>
              <a:off x="2379240" y="1434240"/>
              <a:ext cx="2423520" cy="391320"/>
            </a:xfrm>
            <a:custGeom>
              <a:avLst/>
              <a:gdLst>
                <a:gd name="textAreaLeft" fmla="*/ 0 w 2423520"/>
                <a:gd name="textAreaRight" fmla="*/ 2423880 w 242352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479" h="239">
                  <a:moveTo>
                    <a:pt x="0" y="239"/>
                  </a:moveTo>
                  <a:lnTo>
                    <a:pt x="1171" y="0"/>
                  </a:lnTo>
                  <a:lnTo>
                    <a:pt x="147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>
              <a:off x="2840760" y="570240"/>
              <a:ext cx="1962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7"/>
            <p:cNvSpPr/>
            <p:nvPr/>
          </p:nvSpPr>
          <p:spPr>
            <a:xfrm>
              <a:off x="2336040" y="2381400"/>
              <a:ext cx="2466720" cy="442440"/>
            </a:xfrm>
            <a:custGeom>
              <a:avLst/>
              <a:gdLst>
                <a:gd name="textAreaLeft" fmla="*/ 0 w 2466720"/>
                <a:gd name="textAreaRight" fmla="*/ 2467080 w 246672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1506" h="270">
                  <a:moveTo>
                    <a:pt x="0" y="0"/>
                  </a:moveTo>
                  <a:lnTo>
                    <a:pt x="1198" y="270"/>
                  </a:lnTo>
                  <a:lnTo>
                    <a:pt x="1506" y="27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8"/>
            <p:cNvSpPr/>
            <p:nvPr/>
          </p:nvSpPr>
          <p:spPr>
            <a:xfrm>
              <a:off x="4497840" y="3801240"/>
              <a:ext cx="304920" cy="2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"/>
            <p:cNvSpPr/>
            <p:nvPr/>
          </p:nvSpPr>
          <p:spPr>
            <a:xfrm>
              <a:off x="1545120" y="4101120"/>
              <a:ext cx="3257280" cy="504720"/>
            </a:xfrm>
            <a:custGeom>
              <a:avLst/>
              <a:gdLst>
                <a:gd name="textAreaLeft" fmla="*/ 0 w 3257280"/>
                <a:gd name="textAreaRight" fmla="*/ 3257640 w 32572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988" h="308">
                  <a:moveTo>
                    <a:pt x="0" y="0"/>
                  </a:moveTo>
                  <a:lnTo>
                    <a:pt x="1680" y="308"/>
                  </a:lnTo>
                  <a:lnTo>
                    <a:pt x="1988" y="30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0"/>
            <p:cNvSpPr/>
            <p:nvPr/>
          </p:nvSpPr>
          <p:spPr>
            <a:xfrm>
              <a:off x="5419800" y="4454640"/>
              <a:ext cx="19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tervertebral dis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>
              <a:off x="5452200" y="365004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pinous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2"/>
            <p:cNvSpPr/>
            <p:nvPr/>
          </p:nvSpPr>
          <p:spPr>
            <a:xfrm>
              <a:off x="3121560" y="5291280"/>
              <a:ext cx="1681200" cy="1375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37520"/>
                <a:gd name="textAreaBottom" fmla="*/ 137520 h 137520"/>
              </a:gdLst>
              <a:ahLst/>
              <a:rect l="textAreaLeft" t="textAreaTop" r="textAreaRight" b="textAreaBottom"/>
              <a:pathLst>
                <a:path w="1027" h="83">
                  <a:moveTo>
                    <a:pt x="0" y="0"/>
                  </a:moveTo>
                  <a:lnTo>
                    <a:pt x="711" y="83"/>
                  </a:lnTo>
                  <a:lnTo>
                    <a:pt x="1027" y="8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1765080" y="6090480"/>
              <a:ext cx="196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(b) Left lateral 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4"/>
            <p:cNvSpPr/>
            <p:nvPr/>
          </p:nvSpPr>
          <p:spPr>
            <a:xfrm>
              <a:off x="6201000" y="1223640"/>
              <a:ext cx="194040" cy="2072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072880"/>
                <a:gd name="textAreaBottom" fmla="*/ 2073240 h 2072880"/>
              </a:gdLst>
              <a:ahLst/>
              <a:rect l="textAreaLeft" t="textAreaTop" r="textAreaRight" b="textAreaBottom"/>
              <a:pathLst>
                <a:path w="118" h="1265">
                  <a:moveTo>
                    <a:pt x="0" y="1265"/>
                  </a:moveTo>
                  <a:lnTo>
                    <a:pt x="118" y="1265"/>
                  </a:lnTo>
                  <a:lnTo>
                    <a:pt x="118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5"/>
            <p:cNvSpPr/>
            <p:nvPr/>
          </p:nvSpPr>
          <p:spPr>
            <a:xfrm>
              <a:off x="6395040" y="2257560"/>
              <a:ext cx="186120" cy="2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6"/>
            <p:cNvSpPr/>
            <p:nvPr/>
          </p:nvSpPr>
          <p:spPr>
            <a:xfrm>
              <a:off x="4881240" y="413640"/>
              <a:ext cx="24505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uperior articu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rocess of L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7"/>
            <p:cNvSpPr/>
            <p:nvPr/>
          </p:nvSpPr>
          <p:spPr>
            <a:xfrm>
              <a:off x="5391360" y="1280160"/>
              <a:ext cx="1864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ferior 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notch of L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8"/>
            <p:cNvSpPr/>
            <p:nvPr/>
          </p:nvSpPr>
          <p:spPr>
            <a:xfrm>
              <a:off x="5464440" y="2694600"/>
              <a:ext cx="1946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uperior 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notch of L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9"/>
            <p:cNvSpPr/>
            <p:nvPr/>
          </p:nvSpPr>
          <p:spPr>
            <a:xfrm>
              <a:off x="5375520" y="5291280"/>
              <a:ext cx="1800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ferior articu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rocess of L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7052760" y="2092680"/>
              <a:ext cx="15429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ter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fora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7" descr="sal25693_08_24c"/>
          <p:cNvPicPr/>
          <p:nvPr/>
        </p:nvPicPr>
        <p:blipFill>
          <a:blip r:embed="rId1"/>
          <a:stretch/>
        </p:blipFill>
        <p:spPr>
          <a:xfrm>
            <a:off x="919080" y="971640"/>
            <a:ext cx="7277040" cy="5486400"/>
          </a:xfrm>
          <a:prstGeom prst="rect">
            <a:avLst/>
          </a:prstGeom>
          <a:ln w="0">
            <a:noFill/>
          </a:ln>
        </p:spPr>
      </p:pic>
      <p:sp>
        <p:nvSpPr>
          <p:cNvPr id="623" name="Slide Number Placeholder 3"/>
          <p:cNvSpPr/>
          <p:nvPr/>
        </p:nvSpPr>
        <p:spPr>
          <a:xfrm>
            <a:off x="830592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8-</a:t>
            </a:r>
            <a:fld id="{EBA9BAB6-7A71-4E47-9F89-63F91A126BEE}" type="slidenum"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49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Trebuchet MS"/>
              </a:rPr>
              <a:t>Atlas and Axis Arti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667800" y="6324480"/>
            <a:ext cx="17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gure 8.24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4"/>
          <p:cNvSpPr/>
          <p:nvPr/>
        </p:nvSpPr>
        <p:spPr>
          <a:xfrm>
            <a:off x="2155680" y="671400"/>
            <a:ext cx="48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2"/>
          <p:cNvSpPr/>
          <p:nvPr/>
        </p:nvSpPr>
        <p:spPr>
          <a:xfrm>
            <a:off x="1204920" y="1650960"/>
            <a:ext cx="3390840" cy="71748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36" h="452">
                <a:moveTo>
                  <a:pt x="2136" y="452"/>
                </a:moveTo>
                <a:lnTo>
                  <a:pt x="1397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3"/>
          <p:cNvSpPr/>
          <p:nvPr/>
        </p:nvSpPr>
        <p:spPr>
          <a:xfrm>
            <a:off x="416880" y="1481040"/>
            <a:ext cx="59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De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2273400" y="1117440"/>
            <a:ext cx="2340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5"/>
          <p:cNvSpPr/>
          <p:nvPr/>
        </p:nvSpPr>
        <p:spPr>
          <a:xfrm>
            <a:off x="376560" y="932040"/>
            <a:ext cx="18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Axis of ro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36"/>
          <p:cNvSpPr/>
          <p:nvPr/>
        </p:nvSpPr>
        <p:spPr>
          <a:xfrm>
            <a:off x="1855800" y="3168720"/>
            <a:ext cx="2739960" cy="1117440"/>
          </a:xfrm>
          <a:custGeom>
            <a:avLst/>
            <a:gdLst>
              <a:gd name="textAreaLeft" fmla="*/ 0 w 2739960"/>
              <a:gd name="textAreaRight" fmla="*/ 2740320 w 273996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726" h="704">
                <a:moveTo>
                  <a:pt x="1726" y="0"/>
                </a:moveTo>
                <a:lnTo>
                  <a:pt x="987" y="704"/>
                </a:lnTo>
                <a:lnTo>
                  <a:pt x="0" y="70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7"/>
          <p:cNvSpPr/>
          <p:nvPr/>
        </p:nvSpPr>
        <p:spPr>
          <a:xfrm>
            <a:off x="6847560" y="1951200"/>
            <a:ext cx="61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Atl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6862680" y="4648320"/>
            <a:ext cx="498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Ax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>
            <a:off x="5602320" y="4797360"/>
            <a:ext cx="1189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0"/>
          <p:cNvSpPr/>
          <p:nvPr/>
        </p:nvSpPr>
        <p:spPr>
          <a:xfrm>
            <a:off x="6330960" y="2117880"/>
            <a:ext cx="488880" cy="650880"/>
          </a:xfrm>
          <a:custGeom>
            <a:avLst/>
            <a:gdLst>
              <a:gd name="textAreaLeft" fmla="*/ 0 w 488880"/>
              <a:gd name="textAreaRight" fmla="*/ 489240 w 488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08" h="410">
                <a:moveTo>
                  <a:pt x="308" y="0"/>
                </a:moveTo>
                <a:lnTo>
                  <a:pt x="154" y="0"/>
                </a:lnTo>
                <a:lnTo>
                  <a:pt x="0" y="41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1"/>
          <p:cNvSpPr/>
          <p:nvPr/>
        </p:nvSpPr>
        <p:spPr>
          <a:xfrm>
            <a:off x="1189080" y="1635120"/>
            <a:ext cx="3390840" cy="72216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2136" h="455">
                <a:moveTo>
                  <a:pt x="2136" y="455"/>
                </a:moveTo>
                <a:lnTo>
                  <a:pt x="1397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42"/>
          <p:cNvSpPr/>
          <p:nvPr/>
        </p:nvSpPr>
        <p:spPr>
          <a:xfrm>
            <a:off x="2262240" y="1101600"/>
            <a:ext cx="2333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3"/>
          <p:cNvSpPr/>
          <p:nvPr/>
        </p:nvSpPr>
        <p:spPr>
          <a:xfrm>
            <a:off x="1838160" y="3157560"/>
            <a:ext cx="2741760" cy="111744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727" h="704">
                <a:moveTo>
                  <a:pt x="1727" y="0"/>
                </a:moveTo>
                <a:lnTo>
                  <a:pt x="988" y="704"/>
                </a:lnTo>
                <a:lnTo>
                  <a:pt x="0" y="70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44"/>
          <p:cNvSpPr/>
          <p:nvPr/>
        </p:nvSpPr>
        <p:spPr>
          <a:xfrm>
            <a:off x="5584680" y="4786200"/>
            <a:ext cx="11955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45"/>
          <p:cNvSpPr/>
          <p:nvPr/>
        </p:nvSpPr>
        <p:spPr>
          <a:xfrm>
            <a:off x="6319800" y="2101680"/>
            <a:ext cx="488880" cy="655920"/>
          </a:xfrm>
          <a:custGeom>
            <a:avLst/>
            <a:gdLst>
              <a:gd name="textAreaLeft" fmla="*/ 0 w 488880"/>
              <a:gd name="textAreaRight" fmla="*/ 489240 w 488880"/>
              <a:gd name="textAreaTop" fmla="*/ 0 h 655920"/>
              <a:gd name="textAreaBottom" fmla="*/ 655920 h 655920"/>
            </a:gdLst>
            <a:ahLst/>
            <a:rect l="textAreaLeft" t="textAreaTop" r="textAreaRight" b="textAreaBottom"/>
            <a:pathLst>
              <a:path w="308" h="413">
                <a:moveTo>
                  <a:pt x="308" y="0"/>
                </a:moveTo>
                <a:lnTo>
                  <a:pt x="150" y="0"/>
                </a:lnTo>
                <a:lnTo>
                  <a:pt x="0" y="41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406080" y="4105440"/>
            <a:ext cx="141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Transver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liga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3413520" y="6473880"/>
            <a:ext cx="253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(c) Atlantoaxial j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1:57:20Z</dcterms:created>
  <dc:creator>Information Technology</dc:creator>
  <dc:description/>
  <dc:language>en-US</dc:language>
  <cp:lastModifiedBy>Information Technology</cp:lastModifiedBy>
  <dcterms:modified xsi:type="dcterms:W3CDTF">2009-10-07T15:54:27Z</dcterms:modified>
  <cp:revision>6</cp:revision>
  <dc:subject/>
  <dc:title>Slide 1</dc:title>
</cp:coreProperties>
</file>